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926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E0F-71E2-4B0B-84B0-1EA7F80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691424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8A7-02FC-481F-8811-8BDD204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C08-A42C-4C46-BABF-5249EFE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663-F39C-4ECE-97C0-B1F1FD84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EA7-EB2F-4E1F-B295-97097D32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B2E-A2F4-476C-9A4A-72024F5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DFF-D0E3-4CF2-9D98-9215000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945-531A-4152-A385-6268ADD9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173240"/>
            <a:ext cx="32918400" cy="226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540-DAC2-4B26-8292-F1A2874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235-3E7C-461E-9504-D48DE0A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C8E-143E-4FD1-91C9-C193A41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01A-3A12-4598-83FE-CFD6229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712096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  <a:defRPr b="0" lang="en-US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4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7120960"/>
            <a:ext cx="1158264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712096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  <a:defRPr b="0" lang="en-US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fld id="{3D5F0D75-D2E7-44B3-BF9E-89DAB1BD242F}" type="slidenum">
              <a:rPr b="0" lang="en-US" sz="4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wu_window.jpg"/>
          <p:cNvPicPr/>
          <p:nvPr/>
        </p:nvPicPr>
        <p:blipFill>
          <a:blip r:embed="rId1"/>
          <a:stretch/>
        </p:blipFill>
        <p:spPr>
          <a:xfrm>
            <a:off x="2549520" y="25904880"/>
            <a:ext cx="6365880" cy="2469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17600" y="666720"/>
            <a:ext cx="355662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Calibri"/>
              </a:rPr>
              <a:t>Collecting Campus Culture: Collaborations and Coll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Stephanie Davis-Kahl, Scholarly Communications Librarian &amp; Meg Miner, University Archivist &amp; Special Collections Librari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7497720" y="3562200"/>
            <a:ext cx="22029840" cy="21664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3921120" y="3986280"/>
            <a:ext cx="2908944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Illinois Wesleyan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Institutional Repository Needs and Comm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mall liberal arts college jumpstarted two initiatives setting two colleagues on a parallel path to collecting, archiving and digitizing campus content, su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student and faculty scholarship and creative works, internal publications, minutes of key committees, and other materi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rough this work we aspir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rease visibility of campus scholarly &amp; creativ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durability, stability and searching capability for born-digital and digitized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Admissions, Alumni Relations, and Advancement in their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cument institutional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467320" y="22650480"/>
            <a:ext cx="12203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Outreach &amp;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ations to students, faculty, departments, administrators Embedding links to content in campus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bedding search code on key website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939000" y="11085480"/>
            <a:ext cx="6853320" cy="90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ollisions from the Repository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llection development policies should allow for expan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dability of materials crucial for continued campus buy-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age metadata to provide connections between info s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e between ‘velocity and precision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copies should be as rich in appearance and information as possi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3787000" y="11085480"/>
            <a:ext cx="6807240" cy="9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ollisions from the Archive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liberate, informed choices of what to s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 needed to create item-level vs. series-level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vey structure of institution’s changes over time cl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orn-digital records must not be “updated” once in 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copies of documents must be accurate representations of orig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11522160" y="26336520"/>
            <a:ext cx="134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Visit Digital Commons @ IWU: http://digitalcommons.iwu.e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Picture 1.png"/>
          <p:cNvPicPr/>
          <p:nvPr/>
        </p:nvPicPr>
        <p:blipFill>
          <a:blip r:embed="rId3"/>
          <a:stretch/>
        </p:blipFill>
        <p:spPr>
          <a:xfrm>
            <a:off x="1077840" y="6600960"/>
            <a:ext cx="4389480" cy="284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Picture 2.png"/>
          <p:cNvPicPr/>
          <p:nvPr/>
        </p:nvPicPr>
        <p:blipFill>
          <a:blip r:embed="rId4"/>
          <a:stretch/>
        </p:blipFill>
        <p:spPr>
          <a:xfrm>
            <a:off x="1322280" y="10558440"/>
            <a:ext cx="46767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Picture 3.png"/>
          <p:cNvPicPr/>
          <p:nvPr/>
        </p:nvPicPr>
        <p:blipFill>
          <a:blip r:embed="rId5"/>
          <a:stretch/>
        </p:blipFill>
        <p:spPr>
          <a:xfrm>
            <a:off x="31152960" y="7012080"/>
            <a:ext cx="3984840" cy="547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TextBox 19"/>
          <p:cNvSpPr/>
          <p:nvPr/>
        </p:nvSpPr>
        <p:spPr>
          <a:xfrm>
            <a:off x="426960" y="15121080"/>
            <a:ext cx="56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alibri"/>
              </a:rPr>
              <a:t>Student Research, Faculty Publications, Creative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lternate Process 22"/>
          <p:cNvSpPr/>
          <p:nvPr/>
        </p:nvSpPr>
        <p:spPr>
          <a:xfrm>
            <a:off x="14473080" y="12077640"/>
            <a:ext cx="8742600" cy="877572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s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inued dialogue and active liste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r perspectives and streng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ccess of Digital Commons depends on both perspectives co-exi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gital Commons is many thing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y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31045320" y="13754160"/>
            <a:ext cx="45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alibri"/>
              </a:rPr>
              <a:t>Oral Histories, Theses, Minutes &amp;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2011-03-21_17-59-40_186.jpg"/>
          <p:cNvPicPr/>
          <p:nvPr/>
        </p:nvPicPr>
        <p:blipFill>
          <a:blip r:embed="rId6"/>
          <a:srcRect l="0" t="14706" r="0" b="31250"/>
          <a:stretch/>
        </p:blipFill>
        <p:spPr>
          <a:xfrm>
            <a:off x="1322280" y="17589600"/>
            <a:ext cx="4675320" cy="5060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0127960" y="22650480"/>
            <a:ext cx="150098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Future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gage with faculty on  opportunities for promoting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courage campus administration to make wider use of IR for records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and from IR usage assessment to users’ needs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iwumag"/>
          <p:cNvPicPr/>
          <p:nvPr/>
        </p:nvPicPr>
        <p:blipFill>
          <a:blip r:embed="rId7"/>
          <a:stretch/>
        </p:blipFill>
        <p:spPr>
          <a:xfrm>
            <a:off x="31152960" y="16311600"/>
            <a:ext cx="4435560" cy="573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C:\Documents and Settings\Staff_Libtech\My Documents\My Pictures\ChgoButton_9_24_10.jpg"/>
          <p:cNvPicPr/>
          <p:nvPr/>
        </p:nvPicPr>
        <p:blipFill>
          <a:blip r:embed="rId8"/>
          <a:stretch/>
        </p:blipFill>
        <p:spPr>
          <a:xfrm>
            <a:off x="29527560" y="26187480"/>
            <a:ext cx="3919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42:49Z</dcterms:created>
  <dc:creator>Stephanie Davis-Kahl</dc:creator>
  <dc:description/>
  <dc:language>en-US</dc:language>
  <cp:lastModifiedBy>The Ames Library</cp:lastModifiedBy>
  <dcterms:modified xsi:type="dcterms:W3CDTF">2011-08-22T02:07:45Z</dcterms:modified>
  <cp:revision>45</cp:revision>
  <dc:subject/>
  <dc:title>Slide 1</dc:title>
</cp:coreProperties>
</file>