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926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639-1820-4373-BBF7-93259084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691424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FB5-1CBE-44E8-876D-71B4F00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6D4-C964-4CBE-9BA3-80A84DD0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82776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6914240"/>
            <a:ext cx="1059948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C66-5463-4223-A4CB-CEB58DB1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7EC-93F3-4D15-AF54-5881A585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C16-81C8-40F9-B60B-BB173634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4F8-9B98-43C3-90E0-9E6678B6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60C-1DD0-47F0-9FCE-B49548F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173240"/>
            <a:ext cx="32918400" cy="226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43E-827B-43FC-A406-F4044B1F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E32-BEB5-411E-8427-0C0174F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691424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604-7D97-4B29-A8E8-89D8DBB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827760"/>
            <a:ext cx="1606392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6914240"/>
            <a:ext cx="32918400" cy="92109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728-5411-4ABE-B6A8-DD19DCF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173240"/>
            <a:ext cx="32918400" cy="48765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827760"/>
            <a:ext cx="32918400" cy="19310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712096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  <a:defRPr b="0" lang="en-US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4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7120960"/>
            <a:ext cx="1158264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712096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  <a:defRPr b="0" lang="en-US" sz="4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fld id="{A932B908-C42B-4ED4-9927-D44A2C1206F2}" type="slidenum">
              <a:rPr b="0" lang="en-US" sz="4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wu_window.jpg"/>
          <p:cNvPicPr/>
          <p:nvPr/>
        </p:nvPicPr>
        <p:blipFill>
          <a:blip r:embed="rId1"/>
          <a:stretch/>
        </p:blipFill>
        <p:spPr>
          <a:xfrm>
            <a:off x="2549520" y="25904880"/>
            <a:ext cx="6365880" cy="2469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17600" y="666720"/>
            <a:ext cx="355662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Calibri"/>
              </a:rPr>
              <a:t>Collecting Campus Culture: Collaborations and Coll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Stephanie Davis-Kahl, Scholarly Communications Librarian &amp; Meg Miner, University Archivist &amp; Special Collections Librari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7497720" y="3562200"/>
            <a:ext cx="22029840" cy="21664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3921120" y="3986280"/>
            <a:ext cx="2908944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Illinois Wesleyan Un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Institutional Repository Needs and Comm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mall liberal arts college jumpstarted two initiatives setting two colleagues on a parallel path to collecting, archiving and digitizing campus content, su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 student and faculty scholarship and creative works, internal publications, minutes of key committees, and other materi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rough this work we aspir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rease visibility of campus scholarly &amp; creativ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durability, stability and searching capability for born-digital and digitized 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Admissions, Alumni Relations, and Advancement in their 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cument institutional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467320" y="22650480"/>
            <a:ext cx="12203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Outreach &amp;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ations to students, faculty, departments, administrators Embedding links to content in campus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bedding search code on key website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6939000" y="11085480"/>
            <a:ext cx="6853320" cy="90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ollisions from the Repository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llection development policies should allow for expan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dability of materials crucial for continued campus buy-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age metadata to provide connections between info s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e between ‘velocity and precision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copies should be as rich in appearance and information as possi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3787000" y="11085480"/>
            <a:ext cx="6807240" cy="9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Collisions from the Archive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liberate, informed choices of what to s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 needed to create item-level vs. series-level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vey structure of institution’s changes over time cl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orn-digital records must not be “updated” once in 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copies of documents must be accurate representations of orig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11522160" y="26336520"/>
            <a:ext cx="134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Visit Digital Commons @ IWU: http://digitalcommons.iwu.e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Picture 1.png"/>
          <p:cNvPicPr/>
          <p:nvPr/>
        </p:nvPicPr>
        <p:blipFill>
          <a:blip r:embed="rId3"/>
          <a:stretch/>
        </p:blipFill>
        <p:spPr>
          <a:xfrm>
            <a:off x="1077840" y="6600960"/>
            <a:ext cx="4389480" cy="284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Picture 2.png"/>
          <p:cNvPicPr/>
          <p:nvPr/>
        </p:nvPicPr>
        <p:blipFill>
          <a:blip r:embed="rId4"/>
          <a:stretch/>
        </p:blipFill>
        <p:spPr>
          <a:xfrm>
            <a:off x="1322280" y="10558440"/>
            <a:ext cx="46767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Picture 3.png"/>
          <p:cNvPicPr/>
          <p:nvPr/>
        </p:nvPicPr>
        <p:blipFill>
          <a:blip r:embed="rId5"/>
          <a:stretch/>
        </p:blipFill>
        <p:spPr>
          <a:xfrm>
            <a:off x="31152960" y="7012080"/>
            <a:ext cx="3984840" cy="547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TextBox 19"/>
          <p:cNvSpPr/>
          <p:nvPr/>
        </p:nvSpPr>
        <p:spPr>
          <a:xfrm>
            <a:off x="426960" y="15121080"/>
            <a:ext cx="56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alibri"/>
              </a:rPr>
              <a:t>Student Research, Faculty Publications, Creative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lternate Process 22"/>
          <p:cNvSpPr/>
          <p:nvPr/>
        </p:nvSpPr>
        <p:spPr>
          <a:xfrm>
            <a:off x="14473080" y="12077640"/>
            <a:ext cx="8742600" cy="877572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s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inued dialogue and active liste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ur perspectives and streng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ccess of Digital Commons depends on both perspectives co-exi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gital Commons is many thing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y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31045320" y="13754160"/>
            <a:ext cx="45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alibri"/>
              </a:rPr>
              <a:t>Oral Histories, Theses, Minutes &amp;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2011-03-21_17-59-40_186.jpg"/>
          <p:cNvPicPr/>
          <p:nvPr/>
        </p:nvPicPr>
        <p:blipFill>
          <a:blip r:embed="rId6"/>
          <a:srcRect l="0" t="14706" r="0" b="31250"/>
          <a:stretch/>
        </p:blipFill>
        <p:spPr>
          <a:xfrm>
            <a:off x="1322280" y="17589600"/>
            <a:ext cx="4675320" cy="5060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0127960" y="22650480"/>
            <a:ext cx="150098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Future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gage with faculty on  opportunities for promoting their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courage campus administration to make wider use of IR for records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79560"/>
                <a:tab algn="l" pos="3759120"/>
                <a:tab algn="l" pos="5638680"/>
                <a:tab algn="l" pos="7518240"/>
                <a:tab algn="l" pos="9398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and from IR usage assessment to users’ needs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iwumag"/>
          <p:cNvPicPr/>
          <p:nvPr/>
        </p:nvPicPr>
        <p:blipFill>
          <a:blip r:embed="rId7"/>
          <a:stretch/>
        </p:blipFill>
        <p:spPr>
          <a:xfrm>
            <a:off x="31152960" y="16311600"/>
            <a:ext cx="4435560" cy="573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C:\Documents and Settings\Staff_Libtech\My Documents\My Pictures\ChgoButton_9_24_10.jpg"/>
          <p:cNvPicPr/>
          <p:nvPr/>
        </p:nvPicPr>
        <p:blipFill>
          <a:blip r:embed="rId8"/>
          <a:stretch/>
        </p:blipFill>
        <p:spPr>
          <a:xfrm>
            <a:off x="29527560" y="26187480"/>
            <a:ext cx="3919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42:49Z</dcterms:created>
  <dc:creator>Stephanie Davis-Kahl</dc:creator>
  <dc:description/>
  <dc:language>en-US</dc:language>
  <cp:lastModifiedBy>The Ames Library</cp:lastModifiedBy>
  <dcterms:modified xsi:type="dcterms:W3CDTF">2011-08-22T02:07:45Z</dcterms:modified>
  <cp:revision>45</cp:revision>
  <dc:subject/>
  <dc:title>Slide 1</dc:title>
</cp:coreProperties>
</file>