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53E-8531-4587-86E6-6D1D8AA0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830-B551-44CB-89C8-2456D1E9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3D1-8A1D-4CF3-82D0-631793A4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0C1-1CCC-4872-B97F-2F6871A9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671-502A-4D7F-8C7A-C469719D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EF7-33C1-4149-AD7B-FA97D7B0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B54-33B3-4AB7-A998-21716A7E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C74-FB04-4E0E-BB7E-995B8B00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1C5-A883-4F04-9FEE-48BF72B5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A20-E231-43BE-B5F7-76EC1019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D24-138B-42D8-9A85-E66137F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881-55E5-41A5-94C6-A48E4AAB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C8D-1639-47C3-AFF5-8C3B555C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backs: a setback for pedestri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regulation: 20-30 feet setback for most multifamily and commercial uses (Fort Smith, Ark. Sec. 27-412, 4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odest example (Los Ange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5143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 to pedestr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aste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Unpleasant, no sense of enclosure or shade from buli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anger of dodging cars (if parking lots I setback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Reduced density from lost opportunity for ho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ments for setb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and air- short bldgs don’t cast shadows so this is silly outside high ris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- o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or of office building do you really need setbacks for priva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6T15:37:19Z</dcterms:created>
  <dc:creator>esther</dc:creator>
  <dc:description/>
  <dc:language>en-US</dc:language>
  <cp:lastModifiedBy>esther</cp:lastModifiedBy>
  <dcterms:modified xsi:type="dcterms:W3CDTF">2017-06-06T15:52:15Z</dcterms:modified>
  <cp:revision>4</cp:revision>
  <dc:subject/>
  <dc:title>Setbacks: a setback for pedestrians </dc:title>
</cp:coreProperties>
</file>