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3A1-C931-4D3A-BF24-61136637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351-73F1-4AF3-ABA5-B5BCF6D1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11F-703B-4293-9B1A-65944B0F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0D0-6125-41F1-80D9-AB542E87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E73-5ABF-43FC-AB8C-B28974FE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1EF-889D-4157-B40E-5DE76AB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D96-8D78-47F5-AAF1-F25326B1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32B-8CAB-4E6E-8683-58495FFF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73A-239A-4049-8DF6-41B94857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432-9140-4615-AA51-0DBD0DEA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9A9-3A93-4153-8BD8-DC341A8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61B-CBED-4237-A97F-C5BC649D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F2D1-6886-4EE8-AFB5-326441CC7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backs: a setback for pedestri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regulation: 20-30 feet setback for most multifamily and commercial uses (Fort Smith, Ark. Sec. 27-412, 4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odest example (Los Ange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5143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 to pedestr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aste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Unpleasant, no sense of enclosure or shade from buli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anger of dodging cars (if parking lots I setback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Reduced density from lost opportunity for ho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ments for setb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and air- short bldgs don’t cast shadows so this is silly outside high ris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- o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or of office building do you really need setbacks for priva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6T15:37:19Z</dcterms:created>
  <dc:creator>esther</dc:creator>
  <dc:description/>
  <dc:language>en-US</dc:language>
  <cp:lastModifiedBy>esther</cp:lastModifiedBy>
  <dcterms:modified xsi:type="dcterms:W3CDTF">2017-06-06T15:52:15Z</dcterms:modified>
  <cp:revision>4</cp:revision>
  <dc:subject/>
  <dc:title>Setbacks: a setback for pedestrians </dc:title>
</cp:coreProperties>
</file>