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rma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ourma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ourma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rma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rma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4510-4DE5-4A15-83BD-538E462957A0}" type="slidenum">
              <a:rPr b="0" lang="en-US" sz="1200" spc="-1" strike="noStrike">
                <a:solidFill>
                  <a:srgbClr val="000000"/>
                </a:solidFill>
                <a:latin typeface="Gourma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LIBRARY BUREAU 1938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1963 - SE-LIN LABELLING SYSTEM, ATTACHED TO  TYPEWRITER,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PRODUCED IRON-ON LABELS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FIRST MAJOR LIBRARY TECHNOLOGY PROJECT EFFORT – SEARCH FOR A BOOK LABELLING SYSTEN TOI USE THAT WAS PERMANENT – BATELLE MEMORIAL INSTITUTE CAME UP WITH PRODUCT, MARKETING BY GAYLORD – MAJOR PROBLEM WAS ADHESION TO DIFFERENT TYPES OF CLOTH AND PAPER BINDINGS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LTP WAS UNDER ALA SPONSORSHIP AND SUPPORTED BY C.L.I.R. GRANT 0 SORT OF A LIBRARY “CONSUMER UNION”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HEAVY AND CLUNKY AND STILL IN USE 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INTRODUCED IN 1966, CAME WITH THE OPPORTUNITY TO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ADD A SPECIAL PLAQUE IN THE CASE THE SENIOR CLASS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WANTED TO GIVE ONE TO THE LIBRARY AS A CLASS GIFT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1948 ADVERTISEMENT – STEEL DRILL WITH WOODEN HANDLES – 2 SIZES OF BITS, USED WITH RED TAPE 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1957 – LIBRARY TECHNOLOGY PRODUCTS – LTP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TAKING SOUND LEVEL READINGS WHILE SETTING A CATALOG DRAWER DOWN ON A TEXTURED PLASTIC LAMINATE ON WOOD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LINOTYPE SLUG CATALOG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THIS IS POSSIBLY AT LIBRARY OF CONGRESS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REPRESENTS EARLY FORM OF CREATING CATALOG CARDS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MOVE THEN TO TYPEWRITERS – NOT SHOWN HERE BUT OBVIOUS ADVANCEMENT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CATALOGER’S CAMERA – SHOWN HERE IS A WOMAN AT INDIANA UNIVERSITY LIBRARY WHERE CAMERA DEVELOPED, WITH FNDING FROM A COUNCIL ON LIBRARY RESOURCES GRANT OF $4,000.  WEIGHED 10 POUNDS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PRODUCES A NEGATIVE FROM WHICH CARDS CAN BE MADE BY PHOTODUPLICATION MACHINE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9 SECONDS TO PROCESS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10 SECONDS TO DRY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4 SECONDS TO PRODUCE POSITIVE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CARD DUPLICATOR – FROM 1960S, DESK TOP CREATION OF CATALOG CARDS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MANY LIBRARIES PRODUCED 80-85% OF THEIR OWN CARDS,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REVERSE OF OUTSOURCING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AUOTMATED LC SEARCHING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PRODUCED CARDS FROM FICHE INSTEAD OF FROM CAMERA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DEVELOPED BEFORE OCLC &amp; THE KILGOUR REVOLUTION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LOVE THAT STEREOTYPE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SNEAD COMPANY BOOK CONVEYER – 1920s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TAKE BOOKS FROM ANY STACK LEVEL TO ANOTHER, HORIZONTALLY R VERTICALLY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MOVED 65 FEET PER MINUTE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ALSO CAME WITH OPTIONAL PNEUMATIC TUBE SYSTEM FOR SENDING CALL SLIPS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1937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CARRIED 1200 BOOKS &amp; MAGAZINE TO 14 CONSOLIDATED SCHOOLS @ 1 SCHOOL PER DAY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WIRED FOR ELECTRICITY &amp; TAPPED INTO SCHOOL ELECTRIC CURRENT, HAD LIGHTS &amp; COULD USE ELECTRIC CHARGING EQUIPMENT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EARLY 1950s J EDGARD HOOVER MODEL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GLOVE-STYLE BAR CODE SCANNER,  1998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$495 – IS THIS A MODEL OR DO YOU GET THAT HAND WITH IT?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rmand"/>
              </a:rPr>
              <a:t>INVALID READING STAND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81BE-068D-46D5-8CDF-FF19D715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ourma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E638-E7BE-4683-9F0E-1234B28F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ourma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5784-6167-4826-9962-2FDED4BAA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ourma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D3FD-F71D-4365-9618-E00B46F1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ourma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35CC-E32B-4196-810D-72F44F8A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ourma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7958-473F-4CB1-8512-7ACDBBC0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ourma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33EE-EEDA-486B-9202-09A5C6DC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ourma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4893-9B9E-46C5-8A57-D01239FB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FDC7-1E27-4E12-A237-722DA164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ourma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7154-CF3C-4DB4-9545-85133531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ourma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D97E-A899-4989-87FE-11C3D966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ourma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CEBB-D28E-4371-805C-7100C44C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ourma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ourma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ourmand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ourmand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ourmand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ourmand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ourmand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ourmand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ourmand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7E3D-DCE5-4F79-B266-34513EA2186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380880"/>
            <a:ext cx="792468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ourmand"/>
              </a:rPr>
              <a:t>Library Technology, </a:t>
            </a:r>
            <a:endParaRPr b="0" lang="en-US" sz="54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ourmand"/>
              </a:rPr>
              <a:t>Gadgets &amp; </a:t>
            </a:r>
            <a:endParaRPr b="0" lang="en-US" sz="54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ourmand"/>
              </a:rPr>
              <a:t>Paraphernalia:</a:t>
            </a:r>
            <a:r>
              <a:rPr b="0" lang="en-US" sz="7200" spc="-1" strike="noStrike">
                <a:solidFill>
                  <a:srgbClr val="000000"/>
                </a:solidFill>
                <a:latin typeface="Gourmand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Gourmand"/>
              </a:rPr>
              <a:t>A Briefe Historie</a:t>
            </a:r>
            <a:endParaRPr b="0" lang="en-US" sz="40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ourmand"/>
              </a:rPr>
              <a:t>Compiled by Karen Schmidt</a:t>
            </a:r>
            <a:endParaRPr b="0" lang="en-US" sz="16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ourmand"/>
              </a:rPr>
              <a:t>University of Illinois at Urbana-Champaign</a:t>
            </a:r>
            <a:endParaRPr b="0" lang="en-US" sz="16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3687840" cy="5562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746160" y="914400"/>
            <a:ext cx="569016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Early in our profession, recipes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for making pastes were part of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library training and included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combining arsenic as well as other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ingredients that attracted bugs and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mold, and caused paper deterioration 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rmand"/>
              </a:rPr>
              <a:t>AGOKEE WAS AN IMPORTANT ADVANCE</a:t>
            </a:r>
            <a:endParaRPr b="0" lang="en-US" sz="20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5715000" cy="4962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76520" y="5181480"/>
            <a:ext cx="5943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rmand"/>
              </a:rPr>
              <a:t>SPACE AGE ALUMINUM AND HI-TECH ENGINEERING FROM THE 1960s HIT THE LIBRARY FIELD BIG TIME</a:t>
            </a:r>
            <a:endParaRPr b="0" lang="en-US" sz="20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3618000" cy="5486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962520" y="614520"/>
            <a:ext cx="4876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Book repair was a training program offered by the W.P.A.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in the 1930s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Repair equipment boxes were 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made available to county libraries &amp; allowed library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staff to handle repair work at remote sites.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These cases were developed by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Gaylord.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5715000" cy="3828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4038480"/>
            <a:ext cx="8382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The ad for this Book Press claimed to have overhead people selling this in the shipping room of a library as a “Book Squeezer” that gets rid of book worms:</a:t>
            </a: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TURN THE WHEEL, GET HUNDREDS OF POUNDS OF PRESSURE, </a:t>
            </a: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AND THE WORMS HAVE TO BEAT IT OR BE SQUASHED!!”</a:t>
            </a: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4952880" cy="4186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90760" y="4495680"/>
            <a:ext cx="7697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rmand"/>
              </a:rPr>
              <a:t>The clunky  and heavy  </a:t>
            </a:r>
            <a:r>
              <a:rPr b="1" lang="en-US" sz="2000" spc="-1" strike="noStrike">
                <a:solidFill>
                  <a:srgbClr val="000000"/>
                </a:solidFill>
                <a:latin typeface="Gourmand"/>
              </a:rPr>
              <a:t>SE-LIN</a:t>
            </a:r>
            <a:r>
              <a:rPr b="0" lang="en-US" sz="2000" spc="-1" strike="noStrike">
                <a:solidFill>
                  <a:srgbClr val="000000"/>
                </a:solidFill>
                <a:latin typeface="Gourmand"/>
              </a:rPr>
              <a:t> Labeler is still in use.  Developed</a:t>
            </a:r>
            <a:endParaRPr b="0" lang="en-US" sz="20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rmand"/>
              </a:rPr>
              <a:t>in the early 1960s by  Batelle Institute, it was the first Library</a:t>
            </a:r>
            <a:endParaRPr b="0" lang="en-US" sz="20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rmand"/>
              </a:rPr>
              <a:t>Technology Project effort.  </a:t>
            </a:r>
            <a:endParaRPr b="0" lang="en-US" sz="20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rmand"/>
              </a:rPr>
              <a:t>LTP served as a sort of Library</a:t>
            </a:r>
            <a:endParaRPr b="0" lang="en-US" sz="20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rman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ourmand"/>
              </a:rPr>
              <a:t>Consumer Union” for a number of years.</a:t>
            </a:r>
            <a:endParaRPr b="0" lang="en-US" sz="20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14680" y="1528920"/>
            <a:ext cx="5715000" cy="3800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75560" y="5530680"/>
            <a:ext cx="70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WE HAVE ALWAYS FOUND WAYS TO TORTURE OUR JOURNALS….</a:t>
            </a: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8320" y="380880"/>
            <a:ext cx="3849480" cy="5639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5040" y="2209680"/>
            <a:ext cx="42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AND HEAT UP OUR BOOKS…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3318120" cy="4876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780000" y="838080"/>
            <a:ext cx="53640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This 1956 Gaylord brain-child was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meant to be used in libraries that 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weren’t open very often.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Gaylord ads suggest having unlisted 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titles for those daring users who 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just wanted to take a chance.”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An unsolved mystery:</a:t>
            </a: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WHO HAS THE BOOOK?</a:t>
            </a: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00200" y="353880"/>
            <a:ext cx="6095880" cy="4084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95360" y="4572000"/>
            <a:ext cx="588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The pre-cursor to high-density shelving: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THE 1931 SNEAD ROLLER CASE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ALL YOU NEED IS A HARD FLOOR…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23880" y="398520"/>
            <a:ext cx="6019920" cy="4164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83800" y="4876920"/>
            <a:ext cx="774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OSU Library alums will remember the RAND-TRIEVER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of the 1970s… and the work that went into keeping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maintenance down to 40 hours a week….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9320" y="2057400"/>
            <a:ext cx="707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ourmand"/>
              </a:rPr>
              <a:t>Relax, and go back </a:t>
            </a:r>
            <a:endParaRPr b="0" lang="en-US" sz="60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ourmand"/>
              </a:rPr>
              <a:t>to a time when </a:t>
            </a:r>
            <a:endParaRPr b="0" lang="en-US" sz="60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ourmand"/>
              </a:rPr>
              <a:t>Men were Men…</a:t>
            </a:r>
            <a:endParaRPr b="0" lang="en-US" sz="60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3310200" cy="4876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419720" y="838080"/>
            <a:ext cx="45133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rmand"/>
              </a:rPr>
              <a:t>This concept was reputedly an idea promoted by – if not</a:t>
            </a:r>
            <a:endParaRPr b="0" lang="en-US" sz="20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rmand"/>
              </a:rPr>
              <a:t>created by – Richard Abel.</a:t>
            </a:r>
            <a:endParaRPr b="0" lang="en-US" sz="20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rmand"/>
              </a:rPr>
              <a:t>The basic project was a </a:t>
            </a:r>
            <a:endParaRPr b="0" lang="en-US" sz="20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rmand"/>
              </a:rPr>
              <a:t>circulation system that used</a:t>
            </a:r>
            <a:endParaRPr b="0" lang="en-US" sz="20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rmand"/>
              </a:rPr>
              <a:t>vacuum pressure to sort</a:t>
            </a:r>
            <a:endParaRPr b="0" lang="en-US" sz="20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rmand"/>
              </a:rPr>
              <a:t>books into their order of</a:t>
            </a:r>
            <a:endParaRPr b="0" lang="en-US" sz="20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rmand"/>
              </a:rPr>
              <a:t>popularity, based on </a:t>
            </a:r>
            <a:endParaRPr b="0" lang="en-US" sz="20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rmand"/>
              </a:rPr>
              <a:t>circulation records.</a:t>
            </a:r>
            <a:endParaRPr b="0" lang="en-US" sz="20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101" name=""/>
          <p:cNvSpPr/>
          <p:nvPr/>
        </p:nvSpPr>
        <p:spPr>
          <a:xfrm>
            <a:off x="5537160" y="5425920"/>
            <a:ext cx="211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ourmand"/>
              </a:rPr>
              <a:t>No photo exists, this is </a:t>
            </a:r>
            <a:endParaRPr b="0" lang="en-US" sz="1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ourmand"/>
              </a:rPr>
              <a:t>an artist’s rendition</a:t>
            </a:r>
            <a:endParaRPr b="0" lang="en-US" sz="14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3963960" cy="4114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4419720"/>
            <a:ext cx="7772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rmand"/>
              </a:rPr>
              <a:t>First invented in 1863, the </a:t>
            </a: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Library Indicator </a:t>
            </a:r>
            <a:r>
              <a:rPr b="0" lang="en-US" sz="2000" spc="-1" strike="noStrike">
                <a:solidFill>
                  <a:srgbClr val="000000"/>
                </a:solidFill>
                <a:latin typeface="Gourmand"/>
              </a:rPr>
              <a:t>contained 100s of small slugs that were replicas of books in the collection &amp;             </a:t>
            </a:r>
            <a:endParaRPr b="0" lang="en-US" sz="20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rmand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ourmand"/>
              </a:rPr>
              <a:t>users could see what was in circulation</a:t>
            </a:r>
            <a:endParaRPr b="0" lang="en-US" sz="20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104" name=""/>
          <p:cNvSpPr/>
          <p:nvPr/>
        </p:nvSpPr>
        <p:spPr>
          <a:xfrm>
            <a:off x="1590840" y="5486400"/>
            <a:ext cx="594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In essence, this was the first </a:t>
            </a:r>
            <a:r>
              <a:rPr b="1" lang="en-US" sz="1800" spc="-1" strike="noStrike">
                <a:solidFill>
                  <a:srgbClr val="000000"/>
                </a:solidFill>
                <a:latin typeface="Gourmand"/>
              </a:rPr>
              <a:t>Public Inquiry Terminal</a:t>
            </a: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309564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434680" y="4768920"/>
            <a:ext cx="6057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Hybrid between the book catalog &amp; the card catalog</a:t>
            </a: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RUDOLPH’S CONTINUOUS  INDEXER</a:t>
            </a: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was little more than a way to display catalog cards, but</a:t>
            </a: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claimed to solve </a:t>
            </a:r>
            <a:r>
              <a:rPr b="1" lang="en-US" sz="1800" spc="-1" strike="noStrike">
                <a:solidFill>
                  <a:srgbClr val="000000"/>
                </a:solidFill>
                <a:latin typeface="Gourmand"/>
              </a:rPr>
              <a:t>ALL CATALOGING PROBLEMS</a:t>
            </a: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ourmand"/>
              </a:rPr>
              <a:t>1891</a:t>
            </a: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3953160" cy="6172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952880" y="1066680"/>
            <a:ext cx="320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From about 1900  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Our move to the card catalog from the book catalog forever changed the way users could access our collections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343400" cy="4278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94800" y="4495680"/>
            <a:ext cx="798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These little leprechauns from 1943 belie the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sophistication and creativity of the catalog card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drawer of which there were many patents and designs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created over the years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3724200" cy="5029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33280" y="5530680"/>
            <a:ext cx="47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WHAT THE HECK IS THIS GUY DOING ??????</a:t>
            </a: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6477120"/>
            <a:ext cx="2590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00400" y="3048120"/>
            <a:ext cx="1863720" cy="2514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0880" y="609480"/>
            <a:ext cx="727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He is taking sound level readings while 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setting a catalog drawer down on textured 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plastic laminate on wood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1957 – Library Technology Products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4914720" cy="3144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32400" y="1981080"/>
            <a:ext cx="3270240" cy="4224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4920" y="3962520"/>
            <a:ext cx="536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Ink and pens were very important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to cataloging, and pens were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marketed to highlight the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speed with which one could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write….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5715000" cy="3686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49400" y="4545000"/>
            <a:ext cx="761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because our cards were hand-written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TACHIGRAPHY – the study of writing – was taught in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library school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6248520" cy="4446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78360" y="5105520"/>
            <a:ext cx="830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The lino-type slug catalog cards were tediously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created and the typewriter was an obvious advancement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039160" cy="5841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60680" y="5759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54" name=""/>
          <p:cNvSpPr/>
          <p:nvPr/>
        </p:nvSpPr>
        <p:spPr>
          <a:xfrm>
            <a:off x="1045800" y="5410080"/>
            <a:ext cx="65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ourmand"/>
              </a:rPr>
              <a:t>A Group of Librarians, Narraganesett Pier, Rhode Island</a:t>
            </a: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55" name=""/>
          <p:cNvSpPr/>
          <p:nvPr/>
        </p:nvSpPr>
        <p:spPr>
          <a:xfrm>
            <a:off x="818640" y="5014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Gorman</a:t>
            </a: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56" name=""/>
          <p:cNvSpPr/>
          <p:nvPr/>
        </p:nvSpPr>
        <p:spPr>
          <a:xfrm>
            <a:off x="2663640" y="50148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Schlipf</a:t>
            </a: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57" name=""/>
          <p:cNvSpPr/>
          <p:nvPr/>
        </p:nvSpPr>
        <p:spPr>
          <a:xfrm>
            <a:off x="7550280" y="129528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Teper</a:t>
            </a: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58" name=""/>
          <p:cNvSpPr/>
          <p:nvPr/>
        </p:nvSpPr>
        <p:spPr>
          <a:xfrm>
            <a:off x="3934440" y="65412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Schottlaender</a:t>
            </a: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59" name=""/>
          <p:cNvSpPr/>
          <p:nvPr/>
        </p:nvSpPr>
        <p:spPr>
          <a:xfrm>
            <a:off x="5929560" y="50148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B. Johnson</a:t>
            </a: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7467120" y="16002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400800" y="9144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028840" y="990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914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914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2200" y="609480"/>
            <a:ext cx="3606840" cy="5105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21120" y="1295280"/>
            <a:ext cx="37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Those of us of “a certain age”</a:t>
            </a: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will remember the Cataloger’s</a:t>
            </a: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Camera</a:t>
            </a: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Developed at Indiana University,</a:t>
            </a: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the camera weighed 10 pounds</a:t>
            </a: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It took  shots of cards from NUC</a:t>
            </a: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and developed them in seconds…</a:t>
            </a: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3681360" cy="5448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410080" y="106668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And of course we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then duplicated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cards and over-typed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them 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Sometimes even at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our desks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14680" y="1152360"/>
            <a:ext cx="5715000" cy="4553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80880" y="201600"/>
            <a:ext cx="9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And when we made mistakes in our typing, we erased them….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3886200" cy="5867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020200" y="963720"/>
            <a:ext cx="356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This iconic product was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developed in the 1940s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The ads tried to make it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appeal to librarians by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noting that it 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rmand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Gourmand"/>
              </a:rPr>
              <a:t>Keeps everything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rmand"/>
              </a:rPr>
              <a:t>neat and tidy!”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14680" y="1514520"/>
            <a:ext cx="5715000" cy="3828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75160" y="457200"/>
            <a:ext cx="775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PRODUCING CARDS FROM FICHE …AUTOMATICALLY!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133" name=""/>
          <p:cNvSpPr/>
          <p:nvPr/>
        </p:nvSpPr>
        <p:spPr>
          <a:xfrm>
            <a:off x="1721160" y="5538960"/>
            <a:ext cx="57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ourmand"/>
              </a:rPr>
              <a:t>We have always been such a well-dressed bunch…</a:t>
            </a:r>
            <a:endParaRPr b="0" lang="en-US" sz="20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3657600" cy="5334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20040" y="485640"/>
            <a:ext cx="5193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The color-coded KARDEX moved us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to a more visible way to Gap Claim 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It also provided a good foundation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for automating our serial check-in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3396960" cy="510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523880" y="5562720"/>
            <a:ext cx="67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And thus an attitude was borne….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3567240" cy="5333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089680" y="735120"/>
            <a:ext cx="277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CLEARLY, ROBOTS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MADE WORK A 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rmand"/>
              </a:rPr>
              <a:t>HAPPY, HAPPY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5715000" cy="37911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801720" y="5029200"/>
            <a:ext cx="783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Before  1900, the circulation desk was the Gateway to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The Temple of Books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181480" y="1295280"/>
            <a:ext cx="3426120" cy="5257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087200" y="533520"/>
            <a:ext cx="686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ABSOLUTELY SAFE EVEN IN INEXPERT HANDS”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2286000"/>
            <a:ext cx="3444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This 1920s Snead book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conveyer moved books 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horizontally &amp; vertically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@ 65 feet per minute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60960" y="762120"/>
            <a:ext cx="807660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ourmand"/>
              </a:rPr>
              <a:t>And Women were… </a:t>
            </a:r>
            <a:endParaRPr b="0" lang="en-US" sz="66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ourmand"/>
              </a:rPr>
              <a:t>um….</a:t>
            </a:r>
            <a:endParaRPr b="0" lang="en-US" sz="5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ourmand"/>
              </a:rPr>
              <a:t>well …..</a:t>
            </a:r>
            <a:endParaRPr b="0" lang="en-US" sz="66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76120" y="762120"/>
            <a:ext cx="3929040" cy="48006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648320" y="609480"/>
            <a:ext cx="3400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The charging machine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traveled from one library to another.  It carried up to 1200 books and hooked up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to a building’s electricity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147" name=""/>
          <p:cNvSpPr/>
          <p:nvPr/>
        </p:nvSpPr>
        <p:spPr>
          <a:xfrm>
            <a:off x="6184440" y="4371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rmand"/>
              </a:rPr>
              <a:t>1937</a:t>
            </a:r>
            <a:endParaRPr b="0" lang="en-US" sz="28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819840" cy="46036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421360" y="5486400"/>
            <a:ext cx="47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NOTE THE CHILDREN’S SECTION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4343040" y="4191120"/>
            <a:ext cx="30492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3600720" cy="4800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029200" y="1295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XEROX Copy-Flo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5105520"/>
            <a:ext cx="10280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rmand"/>
              </a:rPr>
              <a:t>It took a reel of microfilm and would output it on to paper – </a:t>
            </a:r>
            <a:endParaRPr b="0" lang="en-US" sz="20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rmand"/>
              </a:rPr>
              <a:t>generally creating a large hank of paper that needed to then be </a:t>
            </a:r>
            <a:endParaRPr b="0" lang="en-US" sz="20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rmand"/>
              </a:rPr>
              <a:t>chopped up into pages</a:t>
            </a:r>
            <a:endParaRPr b="0" lang="en-US" sz="20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3481560" cy="4648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3480" y="5029200"/>
            <a:ext cx="917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This UTLAS (University of Toronto Library Automation Systems)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1980 bar code scanner allowed patrons to use a lightpen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and scanner for circulation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352680" y="533520"/>
            <a:ext cx="3408480" cy="5029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102760" y="5638680"/>
            <a:ext cx="53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Likely the first use of “self-charging”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3011400" cy="5029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419720" y="914400"/>
            <a:ext cx="297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for your protection a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confidential film record is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being made of you and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this transaction.”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429000" y="2438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161" name=""/>
          <p:cNvSpPr/>
          <p:nvPr/>
        </p:nvSpPr>
        <p:spPr>
          <a:xfrm>
            <a:off x="4316400" y="3906720"/>
            <a:ext cx="360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rmand"/>
              </a:rPr>
              <a:t>Early 1950s “J. Edgar Hoover</a:t>
            </a:r>
            <a:endParaRPr b="0" lang="en-US" sz="20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rmand"/>
              </a:rPr>
              <a:t>Model” of circulation camera</a:t>
            </a:r>
            <a:endParaRPr b="0" lang="en-US" sz="20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162" name=""/>
          <p:cNvSpPr/>
          <p:nvPr/>
        </p:nvSpPr>
        <p:spPr>
          <a:xfrm>
            <a:off x="997920" y="5715000"/>
            <a:ext cx="70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ourmand"/>
              </a:rPr>
              <a:t>note to self:</a:t>
            </a:r>
            <a:r>
              <a:rPr b="0" i="1" lang="en-US" sz="1600" spc="-1" strike="noStrike">
                <a:solidFill>
                  <a:srgbClr val="000000"/>
                </a:solidFill>
                <a:latin typeface="Gourmand"/>
              </a:rPr>
              <a:t> do not make current administration aware of this technology….</a:t>
            </a:r>
            <a:endParaRPr b="0" lang="en-US" sz="16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5715000" cy="4714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09480" y="48769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1951: Computers begin to insinuate themselves into our vocabulary  ~ </a:t>
            </a:r>
            <a:r>
              <a:rPr b="1" i="1" lang="en-US" sz="2400" spc="-1" strike="noStrike">
                <a:solidFill>
                  <a:srgbClr val="000000"/>
                </a:solidFill>
                <a:latin typeface="Gourmand"/>
              </a:rPr>
              <a:t>“Your patrons won’t question any fines proved on this computer !!”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819520" y="457200"/>
            <a:ext cx="3290760" cy="4952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490120" y="556272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How to keep track of delinquents….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496040" cy="4135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57080" y="4952880"/>
            <a:ext cx="789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This glove-style scanner from 1998 begs the question: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rmand"/>
              </a:rPr>
              <a:t>    “</a:t>
            </a:r>
            <a:r>
              <a:rPr b="0" i="1" lang="en-US" sz="2400" spc="-1" strike="noStrike">
                <a:solidFill>
                  <a:srgbClr val="000000"/>
                </a:solidFill>
                <a:latin typeface="Gourmand"/>
              </a:rPr>
              <a:t>Is this a model or do you get that hand with it ??”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84800" y="4267080"/>
            <a:ext cx="78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The symbol of the Center for Research Libraries, this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beautiful machine was developed to allow scholars to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run through a number of books and was especially 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designed for readers with the gout.  </a:t>
            </a:r>
            <a:r>
              <a:rPr b="0" i="1" lang="en-US" sz="1800" spc="-1" strike="noStrike">
                <a:solidFill>
                  <a:srgbClr val="000000"/>
                </a:solidFill>
                <a:latin typeface="Gourmand"/>
              </a:rPr>
              <a:t>1588 - Ramelli</a:t>
            </a: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90920" y="533520"/>
            <a:ext cx="36590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3095640" cy="3962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59760" y="1452600"/>
            <a:ext cx="4298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Sure to be popular with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the undergrad users, this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was originally designed 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as an invalid reading stand.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A few modifications might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allow for an iHome, wireless,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and X-Box 360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600200" y="228600"/>
            <a:ext cx="5715000" cy="3971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502640" y="4343400"/>
            <a:ext cx="714708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The “New Earphone Record Player” debuts in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Savannah, Georgia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Most users, it was reported, were boys and men.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(Well-dressed, too, in 1959)</a:t>
            </a: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43000" y="1150920"/>
            <a:ext cx="6400800" cy="4192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767600" y="304920"/>
            <a:ext cx="580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ODE TO “FEDERATED SEARCHING”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Remote simultaneous searching, 1970s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177" name=""/>
          <p:cNvSpPr/>
          <p:nvPr/>
        </p:nvSpPr>
        <p:spPr>
          <a:xfrm>
            <a:off x="664920" y="5538960"/>
            <a:ext cx="86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rmand"/>
              </a:rPr>
              <a:t>Remember the good old days when plastic phone cradles jarred loose?</a:t>
            </a:r>
            <a:endParaRPr b="0" lang="en-US" sz="20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188800" y="685800"/>
            <a:ext cx="4917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Following are pages from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The Faxon series of conference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Photographs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F.W. Faxon would take a number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of photos, place them in a book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and circulate them to conference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attendees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179" name=""/>
          <p:cNvSpPr/>
          <p:nvPr/>
        </p:nvSpPr>
        <p:spPr>
          <a:xfrm>
            <a:off x="3108240" y="4692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733920" y="4191120"/>
            <a:ext cx="2019240" cy="18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066680" y="291960"/>
            <a:ext cx="7543800" cy="631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696440" cy="60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943600" cy="5119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212640" y="5688000"/>
            <a:ext cx="35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An olde-tyme listserv….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ourmand"/>
              </a:rPr>
              <a:t>Lest we forget…</a:t>
            </a:r>
            <a:endParaRPr b="0" lang="en-US" sz="4200" spc="-1" strike="noStrike">
              <a:solidFill>
                <a:srgbClr val="006633"/>
              </a:solidFill>
              <a:latin typeface="Gourma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ourmand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Gourmand"/>
              </a:rPr>
              <a:t>640K [of computer memory] ought to be enough of anybody.”  </a:t>
            </a:r>
            <a:r>
              <a:rPr b="0" i="1" lang="en-US" sz="3000" spc="-1" strike="noStrike">
                <a:solidFill>
                  <a:srgbClr val="000000"/>
                </a:solidFill>
                <a:latin typeface="Gourmand"/>
              </a:rPr>
              <a:t>Bill Gates</a:t>
            </a:r>
            <a:r>
              <a:rPr b="0" lang="en-US" sz="3000" spc="-1" strike="noStrike">
                <a:solidFill>
                  <a:srgbClr val="000000"/>
                </a:solidFill>
                <a:latin typeface="Gourmand"/>
              </a:rPr>
              <a:t>, 1981</a:t>
            </a: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ourmand"/>
              </a:rPr>
              <a:t>Computers in the future may weight no more than 1.5 tones.”  </a:t>
            </a:r>
            <a:r>
              <a:rPr b="0" i="1" lang="en-US" sz="3000" spc="-1" strike="noStrike">
                <a:solidFill>
                  <a:srgbClr val="000000"/>
                </a:solidFill>
                <a:latin typeface="Gourmand"/>
              </a:rPr>
              <a:t>Popular Mechanics</a:t>
            </a:r>
            <a:r>
              <a:rPr b="0" lang="en-US" sz="3000" spc="-1" strike="noStrike">
                <a:solidFill>
                  <a:srgbClr val="000000"/>
                </a:solidFill>
                <a:latin typeface="Gourmand"/>
              </a:rPr>
              <a:t> forecast, 1949</a:t>
            </a: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ourmand"/>
              </a:rPr>
              <a:t>I think there is a world market for maybe 5 computers.”  </a:t>
            </a:r>
            <a:r>
              <a:rPr b="0" i="1" lang="en-US" sz="3000" spc="-1" strike="noStrike">
                <a:solidFill>
                  <a:srgbClr val="000000"/>
                </a:solidFill>
                <a:latin typeface="Gourmand"/>
              </a:rPr>
              <a:t>Thomas Watson</a:t>
            </a:r>
            <a:r>
              <a:rPr b="0" lang="en-US" sz="3000" spc="-1" strike="noStrike">
                <a:solidFill>
                  <a:srgbClr val="000000"/>
                </a:solidFill>
                <a:latin typeface="Gourmand"/>
              </a:rPr>
              <a:t>, chairman of IBM, 1943</a:t>
            </a: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ourmand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Gourmand"/>
              </a:rPr>
              <a:t>Who the hell wants to hear actors talk?”  </a:t>
            </a:r>
            <a:r>
              <a:rPr b="0" i="1" lang="en-US" sz="3000" spc="-1" strike="noStrike">
                <a:solidFill>
                  <a:srgbClr val="000000"/>
                </a:solidFill>
                <a:latin typeface="Gourmand"/>
              </a:rPr>
              <a:t>H. M. Warner</a:t>
            </a:r>
            <a:r>
              <a:rPr b="0" lang="en-US" sz="3000" spc="-1" strike="noStrike">
                <a:solidFill>
                  <a:srgbClr val="000000"/>
                </a:solidFill>
                <a:latin typeface="Gourmand"/>
              </a:rPr>
              <a:t>, Warner Brothers, 1927</a:t>
            </a:r>
            <a:endParaRPr b="0" lang="en-US" sz="30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507960"/>
            <a:ext cx="4495680" cy="4121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429200" y="4800600"/>
            <a:ext cx="627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As you head off to the Seattle Conference, 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best wishes &amp; congratulations to ALCTS on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our 5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ourmand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 anniversary…..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616560" cy="5562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70720" y="1219320"/>
            <a:ext cx="4377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rmand"/>
              </a:rPr>
              <a:t>Remember the joys</a:t>
            </a:r>
            <a:endParaRPr b="0" lang="en-US" sz="32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rmand"/>
              </a:rPr>
              <a:t>of five part multi-copy</a:t>
            </a:r>
            <a:endParaRPr b="0" lang="en-US" sz="32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rmand"/>
              </a:rPr>
              <a:t>order forms…. </a:t>
            </a:r>
            <a:endParaRPr b="0" lang="en-US" sz="32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rmand"/>
              </a:rPr>
              <a:t>the smears, the </a:t>
            </a:r>
            <a:endParaRPr b="0" lang="en-US" sz="32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rmand"/>
              </a:rPr>
              <a:t>illegible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ourmand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Gourmand"/>
              </a:rPr>
              <a:t> copy?</a:t>
            </a:r>
            <a:endParaRPr b="0" lang="en-US" sz="32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067360" cy="4003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653920" y="425520"/>
            <a:ext cx="40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GUESS WHICH ONE IS THE VENDOR?</a:t>
            </a: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90960" y="838080"/>
            <a:ext cx="75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019560" y="76212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248160" y="8380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  <p:sp>
        <p:nvSpPr>
          <p:cNvPr id="74" name=""/>
          <p:cNvSpPr/>
          <p:nvPr/>
        </p:nvSpPr>
        <p:spPr>
          <a:xfrm>
            <a:off x="1669320" y="5181480"/>
            <a:ext cx="609372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1961 - DODGE CITY MAYOR AND ACTORS &amp; LIBRARIAN </a:t>
            </a: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rmand"/>
              </a:rPr>
              <a:t>WITH THE GAYLORD AUTOMATIC CHARGE MACHINE</a:t>
            </a: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114800" y="457200"/>
            <a:ext cx="4321080" cy="5410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96080" y="1676520"/>
            <a:ext cx="364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acquisitions and other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technical services bill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payments were handled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by accessioning lists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3963960" cy="5186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495680" y="2133720"/>
            <a:ext cx="44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The ca. 1900 Bates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Stamp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Lovingly referred to at Illinois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rmand"/>
              </a:rPr>
              <a:t>as the “NORMAN BATES” stamp…</a:t>
            </a:r>
            <a:endParaRPr b="0" lang="en-US" sz="2400" spc="-1" strike="noStrike">
              <a:solidFill>
                <a:srgbClr val="000000"/>
              </a:solidFill>
              <a:latin typeface="Gourma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2T02:58:18Z</dcterms:created>
  <dc:creator>Karen and John</dc:creator>
  <dc:description/>
  <dc:language>en-US</dc:language>
  <cp:lastModifiedBy>Karen Schmidt</cp:lastModifiedBy>
  <dcterms:modified xsi:type="dcterms:W3CDTF">2008-01-04T16:36:03Z</dcterms:modified>
  <cp:revision>30</cp:revision>
  <dc:subject/>
  <dc:title>Slide 1</dc:title>
</cp:coreProperties>
</file>