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F4B5-9CC6-4C2B-B375-F026BAA38CC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67BC-B7C7-4FFA-B9A8-AD5B044E39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292B-D4E2-402B-B37C-84B917895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C1C1-A729-484D-A3E2-CDD001E369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0492F-C79B-4C89-AB07-54C163A632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92E9-12A3-47FB-A076-187B8499BC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C6D2E-E24D-4D68-A380-3F0B15DECB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34C3-F8F9-4109-93DB-B6EE814032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B29D-9C49-4B5B-BD7F-1D3B3E055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B229-0DE0-457E-8446-9D4E3BC1AA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9F683-747A-45C0-8CA3-FB3540982A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17672-03B4-4CFD-AFE5-BBFA6F23DC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F560E-6CF5-4DFC-9C35-A98A552295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86875-F8D9-4A93-8D26-5C25121617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36FB-791E-4960-AC8D-C97362F36A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F83A-E5FF-461A-B7A5-73E7A120E4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A030-AF0E-47E3-BD18-4B26727294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89B2E-B0EA-4B53-AD98-7C2DB87C26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52E2B-6FEE-43AF-A2CC-5AE62BF7D9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0B31F-F2F0-46CE-852F-2E63E5F747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58B02-D14F-426C-AFAD-B4D75F1E8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4E7CA-AAE7-4CB3-A0B7-8A7031521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738391B-5045-4B91-974B-93B01322EBD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1F3FEFE-557B-4FAE-BBAC-3622BA32499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400DC7D-14B9-425E-AC5A-47A661FC6D2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4FF6213-51AB-4C23-A16B-3FBF18A7D7F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D0BBCE0-0D6D-41B1-ADDD-57BD231A027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8CD176C-1D78-4C4F-8FA3-E27B49F7D37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66288D5-3344-40EB-A011-56035D6F10B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55089A3-46D4-4048-AA5F-228E35052EC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5127452-E924-4747-9E1E-24AD0D69361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F3EDB35-6CE7-449B-AC5C-6C0325408E4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48673-F334-4562-B68A-18D8041AC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0664A24-83F4-4840-9D22-DA93E886BA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4E66A3D-6E7E-4281-93D4-AE559F7277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288E7B9-4556-4F0C-BE26-848F194D30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64B3BD4-B90A-465F-80F8-5A69891A43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1DA3C2F-6948-40B7-B1A0-4C8AE26694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0B1BC19-1DBC-42DD-91B9-66A1E1B46D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DBAAD96-C8AD-4FCE-885E-5D5DBB894A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F995528-C640-4D5E-9103-4A936076FC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622A580-16AA-466E-9D2C-2ECE9472C7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66CCEC6-9103-4D1C-9B68-A0031BFE8A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910FD-4D22-4051-AE15-67778EF0E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F6581C6-3137-41D2-A81F-59C9676D168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4FBFDEB-FE21-4C46-8762-A17166F105C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033D31-CED6-43AB-9531-40E1312F01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CEA74A6-CB73-4DE6-BB43-438D5421EF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FF8FA88-1900-44F2-B5CD-C8C214A170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5BBE62-907F-42BE-86E4-544E4BFE8E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1C0C8D-2801-46EA-B1BD-0FBA4E38D4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D25E3C-7F3B-4655-A148-1B5443BD30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0F858D-1426-4FCD-B230-EEEC8DDAB5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CD5DDD-AC4A-4680-9FF8-308D96FC55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247AF5-9F9B-41E0-808B-35F5B58BED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7C7C2E2-497A-4F8E-8DC1-5DA3F669A8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9B6C5C2-B2E5-424E-A892-FA5DE00590F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98575E2-BE83-45AD-B3E3-0539C5FF8D2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E725916-A5DA-4940-B0DD-D1A7FA6DD6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4633273-15FF-4DB5-9734-9E137B600A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73673AC-7642-4950-81D4-6174ED902D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7089C1A-4440-4484-98B5-F4FC8C224B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C003910-661C-4891-AAC9-7210815FDB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2DBBA14-7F49-4B95-ACE5-35F4949EDC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F87D1B5-64DD-4D83-A87B-7193BA451F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B809F-ACC8-494D-BA77-00118A904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1B30E4D-0839-45A1-A0F6-00A96DE822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532A4EC-E437-4E3A-9979-6465BE2703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0E5ADDB-3CBF-4DAB-9FDD-BA2EBEAF9B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8282AF6-3982-4856-A015-32E1FD13408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BA542BE-9B34-44E2-98EA-DEC68399FC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2AE9C-7A63-4306-A57A-DA711A38D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AA202-9E73-46E6-808D-C14A75000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DC88E-0399-4D35-9389-414C625D4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B0ECD-4B49-4131-9A4F-5B4DEE27A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D0E50-8EF2-406F-A9FE-C176C6EE0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B6CCF-8B5C-4B5C-AC97-5C94EB25B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BC99B-AA3F-4606-983A-637876BFE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E35EB-B098-4E39-B430-45D75D4A5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5B636-87AA-485C-A0F5-7A20AFDC8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324CB6-A95E-4700-965B-66AC3B11F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0C2F23-B859-46B4-8494-E4EC091B1D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03B27A-31BF-4973-94B5-86ABD8846B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FACE9F-F669-43F8-9D30-E89924BD33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AF9C5D-765B-4233-9F31-C471EDCE9B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71966A-05D7-427A-9EEE-AD0A65B2B6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DAD644-E7C2-43A4-A63E-61A5C740E5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156FA-55F4-4FED-905F-9AC30789D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240D4B-16A3-4088-A590-BAD8350845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7B8626-0EB9-4035-907F-AA9EFEDC3B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AB00B3-3F4D-4D39-937A-78E398AEF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E42ACD-A1D3-4D61-B856-383D6A8CFA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350976-E20A-4DE9-99F2-59CBEF09F2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1F8713-C84E-4375-8FA0-994BAA5100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E7006D-C3F0-43A0-A98A-4FD4C1AC76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630939C0-6620-41D4-8E15-23FD758E806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7DC4298-0A84-4D02-9293-8A2B2285883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CADBA0B-B9BC-4875-9B5A-30022EEC8F3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C3485-BB3C-412F-8E61-4E878AF39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D5CB6AF-23CC-4C9E-824A-9C349BC088D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C1558B7-926F-4858-8563-45990D711DD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D9CC764-7566-4103-8BEA-8BF3C3DC414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9164B11-B95A-4CD0-8F8E-D5B19BB64D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ECDB306-44FB-41B4-8AAC-671565F8C00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B0AD61A-3B27-4394-9983-07BB7695EEC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A4ADF9A-CF44-4D3D-8364-622D478B61C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8264FB5-9E57-47C0-8280-0650764061D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709EF8F-257D-4BAF-99A4-28C422BC840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4FBE0B-CCE8-4095-B84F-97ECD6FBCD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01EA2-0601-474B-A279-24FE0000C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E42CA7-A127-44F7-8657-F71CEA5C54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CA0C77-A8AB-48F0-85B0-2C1CE21150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4FE6D1-7F83-49C7-AC66-BE5F8C098B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EA1008-58D4-46F1-81E7-0F351C5B74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2F341D-0768-4F04-97D8-9D7CDEECC7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F55C6C-EDBD-40D9-A5D8-766582420C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CE9205-4582-455D-A127-A7EFFFCE3F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28C426-9E68-4E9E-8C1C-8FED74591F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7F88A5-D2C4-475F-895B-837AC7172A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7BE48D-30D8-40BB-BC4F-AF67668979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3FC26-9BD4-48C5-9C64-0348DD0EE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3969B6-AD40-4327-9101-A179167BF0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9B5F82-8F36-415E-946E-E80DA6D2E0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71C1B3-7844-48D3-A44D-E0A42C64DB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8AD65F-7AFB-4A8C-B2CE-B60D4987A9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77A0EC-E359-41DF-8103-A0DB5F7CD3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06ECB1-F11F-4A50-AAE4-6D4781C490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136388-F3EB-4AEB-B8D5-6B904F45BA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551243-BEE7-400E-9ADD-96678B36FE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CBACCA-EF92-489F-B671-5B63BB9424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BA8374-FF26-4504-B6F9-015438AB51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6DF47-2CF5-4D09-8811-7F0F9658F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D0912F-8FB1-429E-802B-167FAAA018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25F24C-C942-4400-883A-2B32A5B7C6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7943DE-CB8B-4F5D-AC09-F2516D3034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AC4C27-F880-4DFE-B2C3-5D5D1DC3C3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4EAB9B-5C3D-4FBB-B700-D992B358A1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233F83-97D9-406D-A475-78EA994B8F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3C19EC-1418-4B3F-97E6-BC19AB5338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C23232-AB8D-432D-9600-BC1FB12DC3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DE7CC0-1E97-406C-B6BC-8D78988540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D05B2E-BE7A-4677-AA99-DDBD071D47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7DC63-7BA2-4F9F-9E32-FC7EAB638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D21D5B-DE56-44C6-98E6-28671B7C62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C90EC6-26C9-46F1-80A9-F13C09FA40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BE20DD-6F41-4615-9808-BF55CF32D5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FF1133-4812-4BCD-AB7B-13E60BFEB4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65F687-9628-4493-B7EF-78C536E054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D8E374-9E2F-45CB-A305-E083BBCBDB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91AB01-0D83-4319-A1F9-962A288823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600212-682B-4D36-A260-280D9E2429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8EF3D1-A3D1-4DE7-BB90-765992EFAC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443160-0EE0-4112-AD29-D59044AB26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120AE-A863-4873-9F41-E9CE27AA0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DE5011-36F5-4A29-899B-3D9D32F63E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0BBD43-5767-4EA0-A9D5-3BB022A201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7C0916-CC6B-40E8-896D-826A3D09EC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007809-70BE-46F8-A0A9-30EBE963CC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1E01D7-01B1-46AE-9561-8C5DE353BE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B5991F-1C50-4265-9484-9C4A2874FA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521118-6E3C-41F8-80BF-4325DCFB31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4A1E5A7-429D-4A3B-98E4-690FDBF819C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EA0D5D0-9F3B-4D2A-9BA8-FA1C82FA2C6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3EEAA8C-FC9C-4C07-BD7B-09F141E23B1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7F273-A7B8-4340-AF76-C78DF6C4AC6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0F0C-715D-4363-9EFF-D3FD9CF6934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E8E2-137C-4328-89D6-BAF829C3C519}"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6155-8F5E-48B9-A732-BB652AF77B4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EB44-E650-419C-B5B5-289C31ED050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70951-8DB2-4FD5-BBE2-14862E3CF8C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5D81-DCB7-4C60-B7A0-750254CF319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5DAD-2D32-4E3E-9710-B85C1EECE98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ED67F-7606-4225-A51D-74A8C0834D8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E26D2-C523-4D71-9D58-BCE357A1039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3E46-DCA8-40B5-BA24-3EC3FC6DD7BD}"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E9149-06AB-4242-A792-1C1C8CFE2F9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v=dGCJ46vyR9o&amp;feature=related" TargetMode="External"/><Relationship Id="rId3" Type="http://schemas.openxmlformats.org/officeDocument/2006/relationships/hyperlink" Target="http://www.youtube.com/watch?v=dGCJ46vyR9o&amp;feature=related" TargetMode="External"/><Relationship Id="rId4" Type="http://schemas.openxmlformats.org/officeDocument/2006/relationships/hyperlink" Target="http://www.youtube.com/watch?v=dGCJ46vyR9o&amp;feature=related" TargetMode="External"/><Relationship Id="rId5" Type="http://schemas.openxmlformats.org/officeDocument/2006/relationships/slideLayout" Target="../slideLayouts/slideLayout8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youtube.com/watch?v=s8O-hv3w-MU" TargetMode="External"/><Relationship Id="rId2" Type="http://schemas.openxmlformats.org/officeDocument/2006/relationships/hyperlink" Target="http://www.youtube.com/watch?v=s8O-hv3w-MU" TargetMode="External"/><Relationship Id="rId3" Type="http://schemas.openxmlformats.org/officeDocument/2006/relationships/hyperlink" Target="http://www.youtube.com/watch?v=s8O-hv3w-MU" TargetMode="External"/><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342900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HRIS SWEET</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HEARTLAND COMMUNITY COLLEGE</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INFORMATION LITERACY SUMMIT</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PRIL, 2008</a:t>
            </a:r>
            <a:endParaRPr b="0" lang="en-US" sz="1600" spc="-1" strike="noStrike">
              <a:solidFill>
                <a:srgbClr val="000000"/>
              </a:solidFill>
              <a:latin typeface="Georgia"/>
            </a:endParaRPr>
          </a:p>
        </p:txBody>
      </p:sp>
      <p:sp>
        <p:nvSpPr>
          <p:cNvPr id="614" name="PlaceHolder 2"/>
          <p:cNvSpPr>
            <a:spLocks noGrp="1"/>
          </p:cNvSpPr>
          <p:nvPr>
            <p:ph type="title"/>
          </p:nvPr>
        </p:nvSpPr>
        <p:spPr>
          <a:xfrm>
            <a:off x="304920" y="228240"/>
            <a:ext cx="85341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Youtube, Video Games and the Da Vinci Code: Effective use of Multimedia in Information Literacy Instruction and Tutorials.</a:t>
            </a:r>
            <a:endParaRPr b="0" lang="en-US" sz="3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Video games and Info Lit</a:t>
            </a: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72% of Americans ages 6-44 play video games (npd.co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rvey of 20 colleges and universities revealed ALL students had played video games and 65% described themselves as regular gamers. (Pew)</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50% have played a game by age 6 (Kais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Video games and Info Lit</a:t>
            </a:r>
            <a:endParaRPr b="0" lang="en-US" sz="3300" spc="-1" strike="noStrike">
              <a:solidFill>
                <a:srgbClr val="7b9899"/>
              </a:solidFill>
              <a:latin typeface="Georgia"/>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Library Arcade from Carnegie Mellon</a:t>
            </a:r>
            <a:endParaRPr b="0" lang="en-US" sz="2500" spc="-1" strike="noStrike">
              <a:solidFill>
                <a:srgbClr val="000000"/>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a:t>
            </a:r>
            <a:r>
              <a:rPr b="0" lang="en-US" sz="2000" spc="-1" strike="noStrike">
                <a:solidFill>
                  <a:srgbClr val="000000"/>
                </a:solidFill>
                <a:latin typeface="Georgia"/>
              </a:rPr>
              <a:t>I’ll Get It”  In this game you go around in the library helping students find the best resources for their projects</a:t>
            </a:r>
            <a:endParaRPr b="0" lang="en-US" sz="2000" spc="-1" strike="noStrike">
              <a:solidFill>
                <a:srgbClr val="646b86"/>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Within Range” A basic shelving game</a:t>
            </a:r>
            <a:endParaRPr b="0" lang="en-US" sz="2000" spc="-1" strike="noStrike">
              <a:solidFill>
                <a:srgbClr val="646b86"/>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http://www.library.cmu.edu/Libraries/etc/ </a:t>
            </a:r>
            <a:endParaRPr b="0" lang="en-US" sz="2000" spc="-1" strike="noStrike">
              <a:solidFill>
                <a:srgbClr val="646b86"/>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t>
            </a:r>
            <a:r>
              <a:rPr b="0" lang="en-US" sz="2500" spc="-1" strike="noStrike">
                <a:solidFill>
                  <a:srgbClr val="000000"/>
                </a:solidFill>
                <a:latin typeface="Georgia"/>
              </a:rPr>
              <a:t>Quarantined” from Arizona State Universities</a:t>
            </a:r>
            <a:endParaRPr b="0" lang="en-US" sz="2500" spc="-1" strike="noStrike">
              <a:solidFill>
                <a:srgbClr val="000000"/>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layers try to save the world from a deadly outbreak while developing information literacy skills as they explore the college campus game world, avoid contagious students and professors to remain virus free and avoid VOA (Virus Outbreak Agency) officers. To discover the cause of and cure for the virus, players are required to interact with characters and make decisions about the information resources they encounter.</a:t>
            </a:r>
            <a:br>
              <a:rPr sz="2000"/>
            </a:br>
            <a:r>
              <a:rPr b="0" lang="en-US" sz="2000" spc="-1" strike="noStrike">
                <a:solidFill>
                  <a:srgbClr val="646b86"/>
                </a:solidFill>
                <a:latin typeface="Georgia"/>
              </a:rPr>
              <a:t>http://library.west.asu.edu/game/quarantined/login.cfm </a:t>
            </a:r>
            <a:endParaRPr b="0" lang="en-US" sz="2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Tube</a:t>
            </a:r>
            <a:endParaRPr b="0" lang="en-US" sz="3300" spc="-1" strike="noStrike">
              <a:solidFill>
                <a:srgbClr val="7b9899"/>
              </a:solidFill>
              <a:latin typeface="Georgia"/>
            </a:endParaRPr>
          </a:p>
        </p:txBody>
      </p:sp>
      <p:sp>
        <p:nvSpPr>
          <p:cNvPr id="639" name=""/>
          <p:cNvSpPr txBox="1"/>
          <p:nvPr/>
        </p:nvSpPr>
        <p:spPr>
          <a:xfrm>
            <a:off x="301320" y="1527120"/>
            <a:ext cx="8504280" cy="4572000"/>
          </a:xfrm>
          <a:prstGeom prst="rect">
            <a:avLst/>
          </a:prstGeom>
          <a:noFill/>
          <a:ln w="0">
            <a:noFill/>
          </a:ln>
        </p:spPr>
        <p:txBody>
          <a:bodyPr anchor="t">
            <a:normAutofit fontScale="99000"/>
          </a:bodyPr>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emendous potential for teaching</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ademic spin-offs: </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ww.teachertube.com </a:t>
            </a:r>
            <a:endParaRPr b="0" lang="en-US" sz="2700" spc="-1" strike="noStrike">
              <a:solidFill>
                <a:srgbClr val="000000"/>
              </a:solidFill>
              <a:latin typeface="Georgia"/>
            </a:endParaRPr>
          </a:p>
          <a:p>
            <a:pPr lvl="1" marL="541800" indent="-2700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arch 6, 2007</a:t>
            </a:r>
            <a:endParaRPr b="0" lang="en-US" sz="2200" spc="-1" strike="noStrike">
              <a:solidFill>
                <a:srgbClr val="646b86"/>
              </a:solidFill>
              <a:latin typeface="Georgia"/>
            </a:endParaRPr>
          </a:p>
          <a:p>
            <a:pPr lvl="1" marL="541800" indent="-2700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structional, educational, professional development, lesson plans</a:t>
            </a:r>
            <a:endParaRPr b="0" lang="en-US" sz="2200" spc="-1" strike="noStrike">
              <a:solidFill>
                <a:srgbClr val="646b86"/>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www.bigthink.com</a:t>
            </a:r>
            <a:endParaRPr b="0" lang="en-US" sz="2700" spc="-1" strike="noStrike">
              <a:solidFill>
                <a:srgbClr val="000000"/>
              </a:solidFill>
              <a:latin typeface="Georgia"/>
            </a:endParaRPr>
          </a:p>
          <a:p>
            <a:pPr lvl="1" marL="541800" indent="-2700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hundreds of hours of direct, unfiltered interviews with today's leading thinkers, movers and shakers</a:t>
            </a:r>
            <a:endParaRPr b="0" lang="en-US" sz="2200" spc="-1" strike="noStrike">
              <a:solidFill>
                <a:srgbClr val="646b86"/>
              </a:solidFill>
              <a:latin typeface="Georgia"/>
            </a:endParaRPr>
          </a:p>
          <a:p>
            <a:pPr lvl="1" marL="541800" indent="-2700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cludes: academics, politicians, writers, artists and presidential candidates</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Tube</a:t>
            </a:r>
            <a:endParaRPr b="0" lang="en-US" sz="3300" spc="-1" strike="noStrike">
              <a:solidFill>
                <a:srgbClr val="7b9899"/>
              </a:solidFill>
              <a:latin typeface="Georgia"/>
            </a:endParaRPr>
          </a:p>
        </p:txBody>
      </p:sp>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dvantages: </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lways accessibl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o special software or plugins required</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o copyright restrictions* (at the very least responsibility defaults to #1 YouTube then #2 person who uploaded video)</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asy to upload your own instructional materials, tutorials, etc.</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ontent can be extremely current</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Tube</a:t>
            </a:r>
            <a:endParaRPr b="0" lang="en-US" sz="3300" spc="-1" strike="noStrike">
              <a:solidFill>
                <a:srgbClr val="7b9899"/>
              </a:solidFill>
              <a:latin typeface="Georgia"/>
            </a:endParaRPr>
          </a:p>
        </p:txBody>
      </p:sp>
      <p:sp>
        <p:nvSpPr>
          <p:cNvPr id="64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me Tip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Find the best quality SHORT clips that you can!  A long video will kill momentum.  Consider showing just relevant segments of video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xample: great 90 sec videos from Olin library (Cornell)</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http://www.youtube.com/watch?v=uDGJ2CYfY9A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Learning styles: tell ‘em, show ‘em, give ‘em a handou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est your connection and computer ahead of tim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reate video assignments with follow-up ques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Use in-class videos to spark discussion</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Have Fun! http://www.youtube.com/watch?v=ZJlkplvYdgA </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utorials</a:t>
            </a:r>
            <a:endParaRPr b="0" lang="en-US" sz="3300" spc="-1" strike="noStrike">
              <a:solidFill>
                <a:srgbClr val="7b9899"/>
              </a:solidFill>
              <a:latin typeface="Georgia"/>
            </a:endParaRPr>
          </a:p>
        </p:txBody>
      </p:sp>
      <p:sp>
        <p:nvSpPr>
          <p:cNvPr id="645"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on’t reinvent the wheel!  Don’t have the time or expertise to create all new multimedia content for your library tutorials?  Beg, borrow and steal!</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 outstanding example of how to do tutorials from Otis College of Art and Design: http://library.otis.edu/informationliteracy.html </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y experience: millenials don’t like tutorials.  They like learning by doing (lots of trial and error).</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RLI has some Voyager tutorials availabl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Other technologies for teaching</a:t>
            </a:r>
            <a:endParaRPr b="0" lang="en-US" sz="3300" spc="-1" strike="noStrike">
              <a:solidFill>
                <a:srgbClr val="7b9899"/>
              </a:solidFill>
              <a:latin typeface="Georgia"/>
            </a:endParaRPr>
          </a:p>
        </p:txBody>
      </p:sp>
      <p:sp>
        <p:nvSpPr>
          <p:cNvPr id="64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ree Stuff!!</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iki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logs</a:t>
            </a:r>
            <a:endParaRPr b="0" lang="en-US" sz="2200" spc="-1" strike="noStrike">
              <a:solidFill>
                <a:srgbClr val="646b86"/>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oth can be great replacements for institutions lacking course management software like WebCT.</a:t>
            </a: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uff that cost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licker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martboard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Video database subscriptions</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General Tips for Incorporating Multimedia</a:t>
            </a:r>
            <a:endParaRPr b="0" lang="en-US" sz="3300" spc="-1" strike="noStrike">
              <a:solidFill>
                <a:srgbClr val="7b9899"/>
              </a:solidFill>
              <a:latin typeface="Georgia"/>
            </a:endParaRPr>
          </a:p>
        </p:txBody>
      </p:sp>
      <p:sp>
        <p:nvSpPr>
          <p:cNvPr id="64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e technology to supplement –not replace- sound teaching practic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member the Boy Scouts: Be Prepared!  Check out new classrooms.  Test video and sound capabilitie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ways have a plan B</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on’t go overboar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ay current on new trends and application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ultimedia for Info Lit Wiki</a:t>
            </a:r>
            <a:endParaRPr b="0" lang="en-US" sz="3300" spc="-1" strike="noStrike">
              <a:solidFill>
                <a:srgbClr val="7b9899"/>
              </a:solidFill>
              <a:latin typeface="Georgia"/>
            </a:endParaRPr>
          </a:p>
        </p:txBody>
      </p:sp>
      <p:sp>
        <p:nvSpPr>
          <p:cNvPr id="651" name=""/>
          <p:cNvSpPr txBox="1"/>
          <p:nvPr/>
        </p:nvSpPr>
        <p:spPr>
          <a:xfrm>
            <a:off x="301320" y="1527120"/>
            <a:ext cx="8504280" cy="4572000"/>
          </a:xfrm>
          <a:prstGeom prst="rect">
            <a:avLst/>
          </a:prstGeom>
          <a:noFill/>
          <a:ln w="0">
            <a:noFill/>
          </a:ln>
        </p:spPr>
        <p:txBody>
          <a:bodyPr anchor="t">
            <a:normAutofit fontScale="99000"/>
          </a:bodyPr>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w wiki that indexes and annotates freely available multimedia resources (videos, podcasts, images, tutorials, handouts, lesson plans, etc)</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ivided by broad categories</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lease pass on the link and add your favorite resources!</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ork in Progress!</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ttp://infolitmultimedia.pbwiki.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52" name=""/>
          <p:cNvSpPr txBox="1"/>
          <p:nvPr/>
        </p:nvSpPr>
        <p:spPr>
          <a:xfrm>
            <a:off x="301320" y="1676160"/>
            <a:ext cx="8504280" cy="4422600"/>
          </a:xfrm>
          <a:prstGeom prst="rect">
            <a:avLst/>
          </a:prstGeom>
          <a:noFill/>
          <a:ln w="0">
            <a:noFill/>
          </a:ln>
        </p:spPr>
        <p:txBody>
          <a:bodyPr anchor="t">
            <a:normAutofit/>
          </a:bodyPr>
          <a:p>
            <a:pPr marL="272880" indent="-272880" algn="ctr">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Questions?</a:t>
            </a:r>
            <a:endParaRPr b="0" lang="en-US" sz="4400" spc="-1" strike="noStrike">
              <a:solidFill>
                <a:srgbClr val="000000"/>
              </a:solidFill>
              <a:latin typeface="Georgia"/>
            </a:endParaRPr>
          </a:p>
          <a:p>
            <a:pPr marL="272880" indent="-272880" algn="ctr">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marL="272880" indent="-272880" algn="ctr">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mments?</a:t>
            </a:r>
            <a:endParaRPr b="0" lang="en-US" sz="4400" spc="-1" strike="noStrike">
              <a:solidFill>
                <a:srgbClr val="000000"/>
              </a:solidFill>
              <a:latin typeface="Georgia"/>
            </a:endParaRPr>
          </a:p>
          <a:p>
            <a:pPr marL="272880" indent="-272880" algn="ctr">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marL="272880" indent="-272880" algn="ctr">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ris.Sweet@Heartland.edu</a:t>
            </a:r>
            <a:endParaRPr b="0" lang="en-US" sz="1800" spc="-1" strike="noStrike">
              <a:solidFill>
                <a:srgbClr val="000000"/>
              </a:solidFill>
              <a:latin typeface="Georgia"/>
            </a:endParaRPr>
          </a:p>
          <a:p>
            <a:pPr marL="272880" indent="-272880" algn="ctr">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WHY?</a:t>
            </a:r>
            <a:endParaRPr b="0" lang="en-US" sz="54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udents are Changin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earning Theories are changing with the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en-US" sz="2700" spc="-1" strike="noStrike">
                <a:solidFill>
                  <a:srgbClr val="000000"/>
                </a:solidFill>
                <a:latin typeface="Georgia"/>
              </a:rPr>
              <a:t>A Vision of students toda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ichael Wesch</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ansas State University- Cultural Anthropology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700,000 views on YouTub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7,000 comment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Picture 4" descr=""/>
          <p:cNvPicPr/>
          <p:nvPr/>
        </p:nvPicPr>
        <p:blipFill>
          <a:blip r:embed="rId1"/>
          <a:stretch/>
        </p:blipFill>
        <p:spPr>
          <a:xfrm>
            <a:off x="380880" y="76320"/>
            <a:ext cx="8458200" cy="5867280"/>
          </a:xfrm>
          <a:prstGeom prst="rect">
            <a:avLst/>
          </a:prstGeom>
          <a:ln w="0">
            <a:noFill/>
          </a:ln>
        </p:spPr>
      </p:pic>
      <p:sp>
        <p:nvSpPr>
          <p:cNvPr id="618" name="TextBox 4"/>
          <p:cNvSpPr/>
          <p:nvPr/>
        </p:nvSpPr>
        <p:spPr>
          <a:xfrm>
            <a:off x="533520" y="5943600"/>
            <a:ext cx="8001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a3d6"/>
                </a:solidFill>
                <a:uFillTx/>
                <a:latin typeface="Georgia"/>
                <a:hlinkClick r:id="rId2"/>
              </a:rPr>
              <a:t>http://</a:t>
            </a:r>
            <a:r>
              <a:rPr b="0" lang="en-US" sz="1800" spc="-1" strike="noStrike" u="sng">
                <a:solidFill>
                  <a:srgbClr val="00a3d6"/>
                </a:solidFill>
                <a:uFillTx/>
                <a:latin typeface="Georgia"/>
                <a:hlinkClick r:id="rId3"/>
              </a:rPr>
              <a:t>www.youtube.com/watch?v</a:t>
            </a:r>
            <a:r>
              <a:rPr b="0" lang="en-US" sz="1800" spc="-1" strike="noStrike" u="sng">
                <a:solidFill>
                  <a:srgbClr val="00a3d6"/>
                </a:solidFill>
                <a:uFillTx/>
                <a:latin typeface="Georgia"/>
                <a:hlinkClick r:id="rId4"/>
              </a:rPr>
              <a:t>=dGCJ46vyR9o&amp;feature=related</a:t>
            </a:r>
            <a:r>
              <a:rPr b="0" lang="en-US" sz="1600" spc="-1" strike="noStrike">
                <a:solidFill>
                  <a:srgbClr val="000000"/>
                </a:solidFill>
                <a:latin typeface="Georgi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WHY? Cont’d</a:t>
            </a:r>
            <a:endParaRPr b="0" lang="en-US" sz="54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chnology can facilitate learnin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t helps to address multiple learning styl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lps engage millenial studen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t’s FU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ibliographic instruction needs a makeov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y?</a:t>
            </a:r>
            <a:endParaRPr b="0" lang="en-US" sz="3300" spc="-1" strike="noStrike">
              <a:solidFill>
                <a:srgbClr val="7b9899"/>
              </a:solidFill>
              <a:latin typeface="Georgia"/>
            </a:endParaRPr>
          </a:p>
        </p:txBody>
      </p:sp>
      <p:pic>
        <p:nvPicPr>
          <p:cNvPr id="622" name="Content Placeholder 3" descr="comic.jpg"/>
          <p:cNvPicPr/>
          <p:nvPr/>
        </p:nvPicPr>
        <p:blipFill>
          <a:blip r:embed="rId1"/>
          <a:stretch/>
        </p:blipFill>
        <p:spPr>
          <a:xfrm>
            <a:off x="1219320" y="1905120"/>
            <a:ext cx="655308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WHAT?</a:t>
            </a:r>
            <a:endParaRPr b="0" lang="en-US" sz="5400" spc="-1" strike="noStrike">
              <a:solidFill>
                <a:srgbClr val="7b9899"/>
              </a:solidFill>
              <a:latin typeface="Georgia"/>
            </a:endParaRPr>
          </a:p>
        </p:txBody>
      </p:sp>
      <p:sp>
        <p:nvSpPr>
          <p:cNvPr id="62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free resources can you utilize for teaching information literacy?</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YouTub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nline Game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Video clip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log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ikis</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New Approaches</a:t>
            </a:r>
            <a:endParaRPr b="0" lang="en-US" sz="3300" spc="-1" strike="noStrike">
              <a:solidFill>
                <a:srgbClr val="7b9899"/>
              </a:solidFill>
              <a:latin typeface="Georgia"/>
            </a:endParaRPr>
          </a:p>
        </p:txBody>
      </p:sp>
      <p:sp>
        <p:nvSpPr>
          <p:cNvPr id="62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w do you teach students about Wikipedia?</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s it?</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7" name="Picture 3" descr="Wikipedia.jpg"/>
          <p:cNvPicPr/>
          <p:nvPr/>
        </p:nvPicPr>
        <p:blipFill>
          <a:blip r:embed="rId1"/>
          <a:stretch/>
        </p:blipFill>
        <p:spPr>
          <a:xfrm>
            <a:off x="685800" y="3124080"/>
            <a:ext cx="2247840" cy="2127240"/>
          </a:xfrm>
          <a:prstGeom prst="rect">
            <a:avLst/>
          </a:prstGeom>
          <a:ln w="0">
            <a:noFill/>
          </a:ln>
        </p:spPr>
      </p:pic>
      <p:sp>
        <p:nvSpPr>
          <p:cNvPr id="628" name="TextBox 4"/>
          <p:cNvSpPr/>
          <p:nvPr/>
        </p:nvSpPr>
        <p:spPr>
          <a:xfrm>
            <a:off x="3657600" y="3505320"/>
            <a:ext cx="1066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Georgia"/>
              </a:rPr>
              <a:t>=</a:t>
            </a:r>
            <a:endParaRPr b="0" lang="en-US" sz="8800" spc="-1" strike="noStrike">
              <a:solidFill>
                <a:srgbClr val="000000"/>
              </a:solidFill>
              <a:latin typeface="Arial"/>
            </a:endParaRPr>
          </a:p>
        </p:txBody>
      </p:sp>
      <p:pic>
        <p:nvPicPr>
          <p:cNvPr id="629" name="Picture 5" descr="Devil.gif"/>
          <p:cNvPicPr/>
          <p:nvPr/>
        </p:nvPicPr>
        <p:blipFill>
          <a:blip r:embed="rId2"/>
          <a:stretch/>
        </p:blipFill>
        <p:spPr>
          <a:xfrm>
            <a:off x="5105520" y="3200400"/>
            <a:ext cx="294156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New Approaches</a:t>
            </a: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deas for teaching about Wikipedia</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Have students compare an encyclopedia article and a wikipedia articl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ncourage instructors to have classes serve as article reviewers based on what they are learning.  Revise and add to an existing articl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valuate the accuracy of an article using other source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efinitely show how easy it is to edit (many students don’t  know)</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how students how they can follow the citation trail.  They can “use” Wikipedia even if they can’t cite it.</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ikipedia</a:t>
            </a:r>
            <a:endParaRPr b="0" lang="en-US" sz="3300" spc="-1" strike="noStrike">
              <a:solidFill>
                <a:srgbClr val="7b9899"/>
              </a:solidFill>
              <a:latin typeface="Georgia"/>
            </a:endParaRPr>
          </a:p>
        </p:txBody>
      </p:sp>
      <p:sp>
        <p:nvSpPr>
          <p:cNvPr id="63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e this time lapse video clip to demonstrate how articles are constructed: </a:t>
            </a:r>
            <a:r>
              <a:rPr b="0" lang="en-US" sz="2700" spc="-1" strike="noStrike" u="sng">
                <a:solidFill>
                  <a:srgbClr val="00a3d6"/>
                </a:solidFill>
                <a:uFillTx/>
                <a:latin typeface="Georgia"/>
                <a:hlinkClick r:id="rId1"/>
              </a:rPr>
              <a:t>http://</a:t>
            </a:r>
            <a:r>
              <a:rPr b="0" lang="en-US" sz="2700" spc="-1" strike="noStrike" u="sng">
                <a:solidFill>
                  <a:srgbClr val="00a3d6"/>
                </a:solidFill>
                <a:uFillTx/>
                <a:latin typeface="Georgia"/>
                <a:hlinkClick r:id="rId2"/>
              </a:rPr>
              <a:t>www.youtube.com/watch?v</a:t>
            </a:r>
            <a:r>
              <a:rPr b="0" lang="en-US" sz="2700" spc="-1" strike="noStrike" u="sng">
                <a:solidFill>
                  <a:srgbClr val="00a3d6"/>
                </a:solidFill>
                <a:uFillTx/>
                <a:latin typeface="Georgia"/>
                <a:hlinkClick r:id="rId3"/>
              </a:rPr>
              <a:t>=s8O-hv3w-MU</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on’t reinvent the wheel!  See how other schools are using Wikipedia: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en.wikipedia.org/wiki/Wikipedia:School_and_university_projects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6T22:12:41Z</dcterms:created>
  <dc:creator>Chris &amp; Cara</dc:creator>
  <dc:description/>
  <dc:language>en-US</dc:language>
  <cp:lastModifiedBy>Authorized User</cp:lastModifiedBy>
  <dcterms:modified xsi:type="dcterms:W3CDTF">2008-04-08T02:25:02Z</dcterms:modified>
  <cp:revision>34</cp:revision>
  <dc:subject/>
  <dc:title>Slide 1</dc:title>
</cp:coreProperties>
</file>