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BC90-88BF-456E-A2F8-F92EC05A60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FD8D-3FA4-46D0-856F-ED80713FA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B990-D595-4D78-97CE-6545CE9E0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8070-8BE0-432D-BF3B-FC894EF44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E164-796A-4C69-BFE2-F33006E02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3062-DB04-4DE0-8B45-A716831C2F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2D7D-0EAF-4B1E-B2A5-D51C4705C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FF4D-78EF-40F4-B7BF-9C829DF9D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255D-A970-4F1E-BC07-235A2F940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539A-62F9-4215-80B1-D34DE1B45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0018-2968-4CB7-BC46-BC6B2A01D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91DA-B436-46A7-9DCE-D463C5BC7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0039-D987-42E1-A3BC-EEB1CE241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4724-739E-4C73-9024-0215C0D6D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EAE7-F9A0-4205-9457-3ADF51E09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8CDF-E34B-437B-9587-D24996AEA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DA6F-7B65-4C8D-9135-C34FFFC45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E8C7-2EAA-4099-85C6-09BCC509D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8818-99ED-4851-B53F-140946C63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015B-F638-4489-9D45-C48636E54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3CEEB-C314-489E-92FA-BB35AF6B0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38B75-AFF9-404A-B955-3C349FD62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8F1090-9430-476E-94E9-CD49B37EAD6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80C7B87-4298-4586-B439-4A5EA5B9BAC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5F3E21B-CBC5-44E1-B173-C67E07C54B4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7978363-C8C7-4556-8046-5DCC153364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A08A34C-8896-4244-BDD1-CACCDB79CB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8D1437C-7FCA-41D2-82AF-BF4A259B943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930C155-B837-4BF8-82C1-104819B13FB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5A610EA-453B-4FC0-9A85-1403EE8B921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A102BA9-DBB1-4B95-A04B-20E81EFE0C0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BD5E085-1ACB-416B-8F13-7FFF5A180A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107C3-66BF-4BE8-B403-56E9751F1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02F4754-273A-4496-B907-032E9CD621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39E6715-63D2-4332-A934-E38F65AEB4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A386A6F-8033-43F6-BEC0-2A363EF928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E49C17-5BFC-4529-B3A8-E00B750151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230F55C-1589-42AE-A56C-3F9DA9FF3F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5C08AB1-D90D-4A2D-AB7A-34C63BFEF8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8AF1092-A834-45E8-BEEE-9EDD2743E3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7A4237A-0165-4EE6-8EA7-7D67257D2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8D7F84A-6075-4D94-BD88-2C6478315C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FA09E80-7C15-4D1A-AB28-A447770BA8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E757C-5FB3-4C00-9286-52C3E2466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FF756C9-57B5-4BCA-B5F5-5A62DEFD11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B5CD09-928F-46A4-9D63-214F1F9BA3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FA673B-CB44-4DD2-A9CD-A374D9F1EB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46B2DE-F088-483C-B3E7-598BFA1143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DB7DA7-0240-4A87-804F-DEA83A0796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3022C4-6D1B-4A32-BA56-3E04C6CFAE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9E2FE3-061F-4D6A-9649-CA39E0CBCF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206CC2-3FCE-4D50-A3EE-F6D7E54873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200DA6-3984-4B4E-971F-7C6B958812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42B496-1FDB-4C31-B391-499A7CDB08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3E5D5-AAA6-42DC-BF65-3788C94D5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3A4882-B84A-4420-B0D6-7FE10117E8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66A7C6-0756-43E5-996B-A19E48F429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D0D3BF-2921-4EAD-AB51-06A1F2916E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26D5EE1-6FDA-4056-A109-B160C7BD60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2191043-24DD-45DC-9641-5C3ED7A4A7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4C1D62F-B2F6-485E-BAC6-16F3757D13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C81E6D8-3FC2-48E0-8F29-F0DCECBFA9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F7725D1-5FBE-402D-A85C-3289E4A4F7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0DF048D-2DB6-433B-9140-EF00053354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3D03F3C-0B48-4222-9323-68E90686C2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24DA8-905C-4DA4-92CA-850708B4D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5473FC7-9F54-4C65-AB5D-3FFD94E682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700AF51-52A8-4BD9-AE93-C2FC48A526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8EDB5D2-3780-4C77-B493-4A4EE36001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30D46A9-20CC-463A-BB8D-2CBB4EBA54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C0C2E74-E09A-438F-BA13-343663D832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352D4-F6DB-4BE4-AA91-DFDC8A91E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8858F-2A68-4719-9CD3-F0782B520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B4D1D-7B54-404F-B84C-619828C8B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C8EA5-DFFC-4374-971D-9CCF54278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74DD9-A96D-4834-B09D-3F7F8C5F9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6474A-FFA6-4527-A0ED-035FBF7B2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E4567-E483-4382-9FA3-437F7DF5C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B689F-EF89-4629-9AC2-8EE441470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95B1F-BFA7-4F52-B4E8-916832098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3003B-994C-4BD0-A406-D3F839D7F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AACB7-6FFF-435E-974A-8D2933D21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805F3E-00CD-40C3-99DC-E9B0027362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EDF65-510D-4DAE-9906-55307EF643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BA868-1D04-440D-BE6D-AE4979085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C9977-99F9-4E87-AC74-B8EB400E69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431A9-6759-4D2C-A06C-E10227659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49C52-5E0D-46D4-AD31-CE98DF0E2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7A926A-42DB-4FF7-AF3E-50CF61C08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6C5B2-4418-445C-B813-8722CA8D3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F0AD2-97C7-415F-9F2A-71DC778A9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EB8BD-EA3F-4B0F-AA47-83B852D6C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028FC-1C48-4382-A005-F1C6D10E5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D49B2-E219-4660-8182-ADBDF0F0FC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8BB9E-03E1-4901-98D4-7BAF816E56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725FB53-9435-45DB-B7B3-BA05C407A2D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36C847B-35D1-4974-8FDF-20F10D795B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3FCC380-0750-4AE5-A889-B4DEA24C95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0EEB3-CDD3-4BDA-8FCB-C03FBFADD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1458C89-26E1-48D4-B337-C558216624F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FC7A07F-F2C9-4BE4-8342-EC90C087324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E8B4ED0-C078-4CE4-A01F-20C640A0B6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A1AD45C-1E98-4740-825E-42CED91873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D1FC141-594D-4F7C-AFAE-914628AA52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45D103-9FB4-4998-B841-A7DDB99CF00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A20EF70-66F1-4F8D-951C-9E8F613A37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05667F4-58B8-4B6A-9157-A2781E75AB6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BA4D147-7DCB-4410-94D7-484711248AD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3DFC10-F83F-499C-AE6B-DF6087D611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E529C-EBA9-43F7-940D-B299071ED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79637-E0DD-4119-A356-D1D7F78198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0CF6AA-2FB7-4719-AADB-4B9DE2F11D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C46842-3599-4FB8-ADC5-1C971E12D2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653AE-BCEE-4093-939E-1595CE2CA2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34BE0-E249-4936-9D30-1C36A7FB4A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21C5F-F8FB-4FFE-8390-C2D810D01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E179E-99A9-4274-AB1F-0F26094ED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E96EA-150E-431A-91D1-F8C484500C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D7D67-6216-4590-9A71-93312DCEB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92097C-0959-4C11-A820-FB326BB8D0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57611-FB35-4967-B2C9-7D8DFB27D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A9B59D-94CD-4FF8-A1AD-91A24584D9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E32BBE-C13B-46C4-A6AC-BAB55EF107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59FD73-9715-4BD2-AE94-3343FA311E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86D2DF-79BA-401B-9E3B-5BDD41FA54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0FF63E-12DB-4B95-BDCF-83F93DEBC7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0D19FC-53C4-487C-83DE-CC508B048C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91FDE7-3A12-4A6F-A48E-28F25F193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684DD0-FD2D-4A26-8BE2-B6A619F3E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8BC71-4648-4992-AD9C-0F664B307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DB29F-CDE7-4041-9D84-C7EAE5CFA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4401A-3157-44B6-9F0B-D53793990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340CDB-FCFA-4256-A50C-4289603133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BE1A89-6F9F-44F9-A045-44B49CC145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DD4A86-1F22-4B9C-8C15-05A6291E98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CDB8D1-FB38-4776-9D84-6516ED0223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189766-C0EB-4C4D-AE1B-BBF4E1EC58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2DE92-D1A4-47E4-A8B0-1DFBD0B8D0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F44C57-2635-435A-B7CB-B2BF4012D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497EE-94D6-4549-873E-8F95CBF728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46DC75-7E85-475C-9235-48EE818CD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99C169-376A-4039-96CE-FF3A63F9B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A6AD8-4268-4FC7-8FEC-539295D81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8B5E9-BFD2-429E-ADC3-4DB91373D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A22E0-64AE-4FE5-8900-A66C71791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3EA66F-93E4-46BF-9653-03E9C1FDFD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119C8E-6BBA-4CBD-8AC3-A4CC257413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E69509-D632-47C2-BC6C-C0A13909D6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8B9160-4044-4D72-9A6A-4934B5F425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AA110-7E96-4063-AF37-2B0947119A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2B9074-6009-48AE-BD3B-A23054B953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9254BC-E2BF-464A-9440-B9A579230E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AD9D6B-7F7C-49D2-9168-7BD656AB9B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40B2-3957-4CE8-B777-916867F1E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857509-55FB-4E16-914C-3936C38BE4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19E2A-57F2-42E9-8978-6EB4B58D1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266A0-BC85-471D-90EC-4DB71589A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F843EF-E5BF-414E-A906-67930A02E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C5BECB-919D-4E9D-8EF0-6226CC7C3C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A72A9C-460C-4A5D-AF52-242EB52696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1271B8-1156-43B5-A60E-130531B78A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27B70F1-D1FA-4CD0-AB72-2332F39CD64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EAE9D2D-F29A-466D-A44C-23A64C83CE1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377500E-EEF6-40B9-923E-C1E3E7FCC11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5B22-3CCF-4C9F-9A6B-BA0A9576C0A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B16F-6346-4D58-A545-4B3579DE215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84BC-88DB-4458-9004-31DF28D05B2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62F5-7AF3-4C09-909C-63D3F09EDA0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D186-6687-4407-A001-E5E61F50AAA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C566-C335-4A84-81C4-5E53AAB733E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1F3A-6F66-4DF4-B479-FFA169F6B42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1914-1512-45A1-9CCB-73631DA0DAB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5FB8-5F4D-4876-8C46-16B9ECB1D07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72F5-8F69-4C8C-A5C5-F7404F476A7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B96A-809D-4243-B14D-DA847D164007}"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05A2-81BD-418A-8A42-30BAAA53A24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CJ46vyR9o&amp;feature=related" TargetMode="External"/><Relationship Id="rId3" Type="http://schemas.openxmlformats.org/officeDocument/2006/relationships/hyperlink" Target="http://www.youtube.com/watch?v=dGCJ46vyR9o&amp;feature=related" TargetMode="External"/><Relationship Id="rId4" Type="http://schemas.openxmlformats.org/officeDocument/2006/relationships/hyperlink" Target="http://www.youtube.com/watch?v=dGCJ46vyR9o&amp;feature=related" TargetMode="External"/><Relationship Id="rId5" Type="http://schemas.openxmlformats.org/officeDocument/2006/relationships/slideLayout" Target="../slideLayouts/slideLayout8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8O-hv3w-MU" TargetMode="External"/><Relationship Id="rId2" Type="http://schemas.openxmlformats.org/officeDocument/2006/relationships/hyperlink" Target="http://www.youtube.com/watch?v=s8O-hv3w-MU" TargetMode="External"/><Relationship Id="rId3" Type="http://schemas.openxmlformats.org/officeDocument/2006/relationships/hyperlink" Target="http://www.youtube.com/watch?v=s8O-hv3w-MU" TargetMode="External"/><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342900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HRIS SWEE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HEARTLAND COMMUNITY COLLEG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INFORMATION LITERACY SUMMI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PRIL, 2008</a:t>
            </a:r>
            <a:endParaRPr b="0" lang="en-US" sz="1600" spc="-1" strike="noStrike">
              <a:solidFill>
                <a:srgbClr val="000000"/>
              </a:solidFill>
              <a:latin typeface="Georgia"/>
            </a:endParaRPr>
          </a:p>
        </p:txBody>
      </p:sp>
      <p:sp>
        <p:nvSpPr>
          <p:cNvPr id="614" name="PlaceHolder 2"/>
          <p:cNvSpPr>
            <a:spLocks noGrp="1"/>
          </p:cNvSpPr>
          <p:nvPr>
            <p:ph type="title"/>
          </p:nvPr>
        </p:nvSpPr>
        <p:spPr>
          <a:xfrm>
            <a:off x="304920" y="228240"/>
            <a:ext cx="85341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Youtube, Video Games and the Da Vinci Code: Effective use of Multimedia in Information Literacy Instruction and Tutorials.</a:t>
            </a: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ideo games and Info Lit</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2% of Americans ages 6-44 play video games (npd.co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rvey of 20 colleges and universities revealed ALL students had played video games and 65% described themselves as regular gamers. (Pe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0% have played a game by age 6 (Kais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ideo games and Info Lit</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ibrary Arcade from Carnegie Mellon</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r>
              <a:rPr b="0" lang="en-US" sz="2000" spc="-1" strike="noStrike">
                <a:solidFill>
                  <a:srgbClr val="000000"/>
                </a:solidFill>
                <a:latin typeface="Georgia"/>
              </a:rPr>
              <a:t>I’ll Get It”  In this game you go around in the library helping students find the best resources for their projects</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Within Range” A basic shelving game</a:t>
            </a:r>
            <a:endParaRPr b="0" lang="en-US" sz="2000" spc="-1" strike="noStrike">
              <a:solidFill>
                <a:srgbClr val="646b86"/>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http://www.library.cmu.edu/Libraries/etc/ </a:t>
            </a:r>
            <a:endParaRPr b="0" lang="en-US" sz="2000" spc="-1" strike="noStrike">
              <a:solidFill>
                <a:srgbClr val="646b86"/>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t>
            </a:r>
            <a:r>
              <a:rPr b="0" lang="en-US" sz="2500" spc="-1" strike="noStrike">
                <a:solidFill>
                  <a:srgbClr val="000000"/>
                </a:solidFill>
                <a:latin typeface="Georgia"/>
              </a:rPr>
              <a:t>Quarantined” from Arizona State Universities</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ayers try to save the world from a deadly outbreak while developing information literacy skills as they explore the college campus game world, avoid contagious students and professors to remain virus free and avoid VOA (Virus Outbreak Agency) officers. To discover the cause of and cure for the virus, players are required to interact with characters and make decisions about the information resources they encounter.</a:t>
            </a:r>
            <a:br>
              <a:rPr sz="2000"/>
            </a:br>
            <a:r>
              <a:rPr b="0" lang="en-US" sz="2000" spc="-1" strike="noStrike">
                <a:solidFill>
                  <a:srgbClr val="646b86"/>
                </a:solidFill>
                <a:latin typeface="Georgia"/>
              </a:rPr>
              <a:t>http://library.west.asu.edu/game/quarantined/login.cfm </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Tube</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emendous potential for teaching</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ademic spin-offs: </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ww.teachertube.com </a:t>
            </a:r>
            <a:endParaRPr b="0" lang="en-US" sz="2700" spc="-1" strike="noStrike">
              <a:solidFill>
                <a:srgbClr val="000000"/>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rch 6, 2007</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structional, educational, professional development, lesson plans</a:t>
            </a:r>
            <a:endParaRPr b="0" lang="en-US" sz="2200" spc="-1" strike="noStrike">
              <a:solidFill>
                <a:srgbClr val="646b86"/>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ww.bigthink.com</a:t>
            </a:r>
            <a:endParaRPr b="0" lang="en-US" sz="2700" spc="-1" strike="noStrike">
              <a:solidFill>
                <a:srgbClr val="000000"/>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undreds of hours of direct, unfiltered interviews with today's leading thinkers, movers and shakers</a:t>
            </a:r>
            <a:endParaRPr b="0" lang="en-US" sz="2200" spc="-1" strike="noStrike">
              <a:solidFill>
                <a:srgbClr val="646b86"/>
              </a:solidFill>
              <a:latin typeface="Georgia"/>
            </a:endParaRPr>
          </a:p>
          <a:p>
            <a:pPr lvl="1" marL="541800" indent="-2700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cludes: academics, politicians, writers, artists and presidential candidate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Tube</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vantages: </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ways accessib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 special software or plugins require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 copyright restrictions* (at the very least responsibility defaults to #1 YouTube then #2 person who uploaded video)</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asy to upload your own instructional materials, tutorials, etc.</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ntent can be extremely current</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YouTube</a:t>
            </a:r>
            <a:endParaRPr b="0" lang="en-US" sz="3300" spc="-1" strike="noStrike">
              <a:solidFill>
                <a:srgbClr val="7b9899"/>
              </a:solidFill>
              <a:latin typeface="Georgia"/>
            </a:endParaRPr>
          </a:p>
        </p:txBody>
      </p:sp>
      <p:sp>
        <p:nvSpPr>
          <p:cNvPr id="64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me Tip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ind the best quality SHORT clips that you can!  A long video will kill momentum.  Consider showing just relevant segments of video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xample: great 90 sec videos from Olin library (Cornell)</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http://www.youtube.com/watch?v=uDGJ2CYfY9A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earning styles: tell ‘em, show ‘em, give ‘em a handou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est your connection and computer ahead of tim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reate video assignments with follow-up ques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 in-class videos to spark discussi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ave Fun! http://www.youtube.com/watch?v=ZJlkplvYdgA </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utorials</a:t>
            </a:r>
            <a:endParaRPr b="0" lang="en-US" sz="3300" spc="-1" strike="noStrike">
              <a:solidFill>
                <a:srgbClr val="7b9899"/>
              </a:solidFill>
              <a:latin typeface="Georgia"/>
            </a:endParaRPr>
          </a:p>
        </p:txBody>
      </p:sp>
      <p:sp>
        <p:nvSpPr>
          <p:cNvPr id="645"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reinvent the wheel!  Don’t have the time or expertise to create all new multimedia content for your library tutorials?  Beg, borrow and steal!</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outstanding example of how to do tutorials from Otis College of Art and Design: http://library.otis.edu/informationliteracy.html </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y experience: millenials don’t like tutorials.  They like learning by doing (lots of trial and error).</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RLI has some Voyager tutorials availab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ther technologies for teaching</a:t>
            </a:r>
            <a:endParaRPr b="0" lang="en-US" sz="3300" spc="-1" strike="noStrike">
              <a:solidFill>
                <a:srgbClr val="7b9899"/>
              </a:solidFill>
              <a:latin typeface="Georgia"/>
            </a:endParaRPr>
          </a:p>
        </p:txBody>
      </p:sp>
      <p:sp>
        <p:nvSpPr>
          <p:cNvPr id="6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ree Stuff!!</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iki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logs</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oth can be great replacements for institutions lacking course management software like WebCT.</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ff that cost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cker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martboard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Video database subscription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eneral Tips for Incorporating Multimedia</a:t>
            </a:r>
            <a:endParaRPr b="0" lang="en-US" sz="3300" spc="-1" strike="noStrike">
              <a:solidFill>
                <a:srgbClr val="7b9899"/>
              </a:solidFill>
              <a:latin typeface="Georgia"/>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technology to supplement –not replace- sound teaching practic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member the Boy Scouts: Be Prepared!  Check out new classrooms.  Test video and sound capabilitie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ways have a plan B</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go overboar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ay current on new trends and application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ultimedia for Info Lit Wiki</a:t>
            </a:r>
            <a:endParaRPr b="0" lang="en-US" sz="3300" spc="-1" strike="noStrike">
              <a:solidFill>
                <a:srgbClr val="7b9899"/>
              </a:solidFill>
              <a:latin typeface="Georgia"/>
            </a:endParaRPr>
          </a:p>
        </p:txBody>
      </p:sp>
      <p:sp>
        <p:nvSpPr>
          <p:cNvPr id="651"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wiki that indexes and annotates freely available multimedia resources (videos, podcasts, images, tutorials, handouts, lesson plans, etc)</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vided by broad categories</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lease pass on the link and add your favorite resources!</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k in Progress!</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ttp://infolitmultimedia.pbwiki.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2" name=""/>
          <p:cNvSpPr txBox="1"/>
          <p:nvPr/>
        </p:nvSpPr>
        <p:spPr>
          <a:xfrm>
            <a:off x="301320" y="1676160"/>
            <a:ext cx="8504280" cy="4422600"/>
          </a:xfrm>
          <a:prstGeom prst="rect">
            <a:avLst/>
          </a:prstGeom>
          <a:noFill/>
          <a:ln w="0">
            <a:noFill/>
          </a:ln>
        </p:spPr>
        <p:txBody>
          <a:bodyPr anchor="t">
            <a:normAutofit/>
          </a:bodyPr>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Questions?</a:t>
            </a:r>
            <a:endParaRPr b="0" lang="en-US" sz="4400" spc="-1" strike="noStrike">
              <a:solidFill>
                <a:srgbClr val="000000"/>
              </a:solidFill>
              <a:latin typeface="Georgia"/>
            </a:endParaRPr>
          </a:p>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mments?</a:t>
            </a:r>
            <a:endParaRPr b="0" lang="en-US" sz="4400" spc="-1" strike="noStrike">
              <a:solidFill>
                <a:srgbClr val="000000"/>
              </a:solidFill>
              <a:latin typeface="Georgia"/>
            </a:endParaRPr>
          </a:p>
          <a:p>
            <a:pPr marL="272880" indent="-272880" algn="ctr">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ctr">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ris.Sweet@Heartland.edu</a:t>
            </a:r>
            <a:endParaRPr b="0" lang="en-US" sz="1800" spc="-1" strike="noStrike">
              <a:solidFill>
                <a:srgbClr val="000000"/>
              </a:solidFill>
              <a:latin typeface="Georgia"/>
            </a:endParaRPr>
          </a:p>
          <a:p>
            <a:pPr marL="272880" indent="-272880" algn="ctr">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WHY?</a:t>
            </a:r>
            <a:endParaRPr b="0" lang="en-US" sz="54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dents are Chang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arning Theories are changing with th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A Vision of students toda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chael Wesch</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ansas State University- Cultural Anthropolog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700,000 views on YouTub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000 commen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4" descr=""/>
          <p:cNvPicPr/>
          <p:nvPr/>
        </p:nvPicPr>
        <p:blipFill>
          <a:blip r:embed="rId1"/>
          <a:stretch/>
        </p:blipFill>
        <p:spPr>
          <a:xfrm>
            <a:off x="380880" y="76320"/>
            <a:ext cx="8458200" cy="5867280"/>
          </a:xfrm>
          <a:prstGeom prst="rect">
            <a:avLst/>
          </a:prstGeom>
          <a:ln w="0">
            <a:noFill/>
          </a:ln>
        </p:spPr>
      </p:pic>
      <p:sp>
        <p:nvSpPr>
          <p:cNvPr id="618" name="TextBox 4"/>
          <p:cNvSpPr/>
          <p:nvPr/>
        </p:nvSpPr>
        <p:spPr>
          <a:xfrm>
            <a:off x="533520" y="5943600"/>
            <a:ext cx="8001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a3d6"/>
                </a:solidFill>
                <a:uFillTx/>
                <a:latin typeface="Georgia"/>
                <a:hlinkClick r:id="rId2"/>
              </a:rPr>
              <a:t>http://</a:t>
            </a:r>
            <a:r>
              <a:rPr b="0" lang="en-US" sz="1800" spc="-1" strike="noStrike" u="sng">
                <a:solidFill>
                  <a:srgbClr val="00a3d6"/>
                </a:solidFill>
                <a:uFillTx/>
                <a:latin typeface="Georgia"/>
                <a:hlinkClick r:id="rId3"/>
              </a:rPr>
              <a:t>www.youtube.com/watch?v</a:t>
            </a:r>
            <a:r>
              <a:rPr b="0" lang="en-US" sz="1800" spc="-1" strike="noStrike" u="sng">
                <a:solidFill>
                  <a:srgbClr val="00a3d6"/>
                </a:solidFill>
                <a:uFillTx/>
                <a:latin typeface="Georgia"/>
                <a:hlinkClick r:id="rId4"/>
              </a:rPr>
              <a:t>=dGCJ46vyR9o&amp;feature=related</a:t>
            </a:r>
            <a:r>
              <a:rPr b="0" lang="en-US" sz="1600" spc="-1" strike="noStrike">
                <a:solidFill>
                  <a:srgbClr val="000000"/>
                </a:solidFill>
                <a:latin typeface="Georgi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WHY? Cont’d</a:t>
            </a:r>
            <a:endParaRPr b="0" lang="en-US" sz="54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chnology can facilitate learn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helps to address multiple learning styl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lps engage millenial stud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s FU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ibliographic instruction needs a makeov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y?</a:t>
            </a:r>
            <a:endParaRPr b="0" lang="en-US" sz="3300" spc="-1" strike="noStrike">
              <a:solidFill>
                <a:srgbClr val="7b9899"/>
              </a:solidFill>
              <a:latin typeface="Georgia"/>
            </a:endParaRPr>
          </a:p>
        </p:txBody>
      </p:sp>
      <p:pic>
        <p:nvPicPr>
          <p:cNvPr id="622" name="Content Placeholder 3" descr="comic.jpg"/>
          <p:cNvPicPr/>
          <p:nvPr/>
        </p:nvPicPr>
        <p:blipFill>
          <a:blip r:embed="rId1"/>
          <a:stretch/>
        </p:blipFill>
        <p:spPr>
          <a:xfrm>
            <a:off x="1219320" y="1905120"/>
            <a:ext cx="655308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WHAT?</a:t>
            </a:r>
            <a:endParaRPr b="0" lang="en-US" sz="54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free resources can you utilize for teaching information literac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YouTub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line Gam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Video clip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log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iki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Approaches</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 you teach students about Wikipedia?</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s it?</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7" name="Picture 3" descr="Wikipedia.jpg"/>
          <p:cNvPicPr/>
          <p:nvPr/>
        </p:nvPicPr>
        <p:blipFill>
          <a:blip r:embed="rId1"/>
          <a:stretch/>
        </p:blipFill>
        <p:spPr>
          <a:xfrm>
            <a:off x="685800" y="3124080"/>
            <a:ext cx="2247840" cy="2127240"/>
          </a:xfrm>
          <a:prstGeom prst="rect">
            <a:avLst/>
          </a:prstGeom>
          <a:ln w="0">
            <a:noFill/>
          </a:ln>
        </p:spPr>
      </p:pic>
      <p:sp>
        <p:nvSpPr>
          <p:cNvPr id="628" name="TextBox 4"/>
          <p:cNvSpPr/>
          <p:nvPr/>
        </p:nvSpPr>
        <p:spPr>
          <a:xfrm>
            <a:off x="3657600" y="3505320"/>
            <a:ext cx="1066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Georgia"/>
              </a:rPr>
              <a:t>=</a:t>
            </a:r>
            <a:endParaRPr b="0" lang="en-US" sz="8800" spc="-1" strike="noStrike">
              <a:solidFill>
                <a:srgbClr val="000000"/>
              </a:solidFill>
              <a:latin typeface="Arial"/>
            </a:endParaRPr>
          </a:p>
        </p:txBody>
      </p:sp>
      <p:pic>
        <p:nvPicPr>
          <p:cNvPr id="629" name="Picture 5" descr="Devil.gif"/>
          <p:cNvPicPr/>
          <p:nvPr/>
        </p:nvPicPr>
        <p:blipFill>
          <a:blip r:embed="rId2"/>
          <a:stretch/>
        </p:blipFill>
        <p:spPr>
          <a:xfrm>
            <a:off x="5105520" y="3200400"/>
            <a:ext cx="294156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New Approaches</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as for teaching about Wikipedi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ave students compare an encyclopedia article and a wikipedia artic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ncourage instructors to have classes serve as article reviewers based on what they are learning.  Revise and add to an existing artic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aluate the accuracy of an article using other sourc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finitely show how easy it is to edit (many students don’t  know)</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how students how they can follow the citation trail.  They can “use” Wikipedia even if they can’t cite i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ikipedia</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e this time lapse video clip to demonstrate how articles are constructed: </a:t>
            </a:r>
            <a:r>
              <a:rPr b="0" lang="en-US" sz="2700" spc="-1" strike="noStrike" u="sng">
                <a:solidFill>
                  <a:srgbClr val="00a3d6"/>
                </a:solidFill>
                <a:uFillTx/>
                <a:latin typeface="Georgia"/>
                <a:hlinkClick r:id="rId1"/>
              </a:rPr>
              <a:t>http://</a:t>
            </a:r>
            <a:r>
              <a:rPr b="0" lang="en-US" sz="2700" spc="-1" strike="noStrike" u="sng">
                <a:solidFill>
                  <a:srgbClr val="00a3d6"/>
                </a:solidFill>
                <a:uFillTx/>
                <a:latin typeface="Georgia"/>
                <a:hlinkClick r:id="rId2"/>
              </a:rPr>
              <a:t>www.youtube.com/watch?v</a:t>
            </a:r>
            <a:r>
              <a:rPr b="0" lang="en-US" sz="2700" spc="-1" strike="noStrike" u="sng">
                <a:solidFill>
                  <a:srgbClr val="00a3d6"/>
                </a:solidFill>
                <a:uFillTx/>
                <a:latin typeface="Georgia"/>
                <a:hlinkClick r:id="rId3"/>
              </a:rPr>
              <a:t>=s8O-hv3w-MU</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reinvent the wheel!  See how other schools are using Wikipedia: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en.wikipedia.org/wiki/Wikipedia:School_and_university_project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22:12:41Z</dcterms:created>
  <dc:creator>Chris &amp; Cara</dc:creator>
  <dc:description/>
  <dc:language>en-US</dc:language>
  <cp:lastModifiedBy>Authorized User</cp:lastModifiedBy>
  <dcterms:modified xsi:type="dcterms:W3CDTF">2008-04-08T02:25:02Z</dcterms:modified>
  <cp:revision>34</cp:revision>
  <dc:subject/>
  <dc:title>Slide 1</dc:title>
</cp:coreProperties>
</file>