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51206400" cy="384048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2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3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AA1B-1859-4F07-85F0-2CA0D9B68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E03D-0A7B-4440-9BA9-2F31E39B5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11636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09280" y="22765680"/>
            <a:ext cx="11636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928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7196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43360" y="657864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677800" y="657864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09280" y="2276568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743360" y="2276568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8677800" y="2276568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09280" y="6578640"/>
            <a:ext cx="11636280" cy="30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11636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20680" y="1486080"/>
            <a:ext cx="48911040" cy="119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0928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09280" y="6578640"/>
            <a:ext cx="11636280" cy="30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7196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9280" y="22765680"/>
            <a:ext cx="11636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11636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09280" y="22765680"/>
            <a:ext cx="11636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0928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77196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3360" y="657864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677800" y="657864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09280" y="2276568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743360" y="2276568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677800" y="2276568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09280" y="6578640"/>
            <a:ext cx="11636280" cy="30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11636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11636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120680" y="1486080"/>
            <a:ext cx="48911040" cy="119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0928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7196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09280" y="22765680"/>
            <a:ext cx="11636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11636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09280" y="22765680"/>
            <a:ext cx="11636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0928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77196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43360" y="657864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677800" y="657864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09280" y="2276568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743360" y="2276568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8677800" y="2276568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20680" y="1486080"/>
            <a:ext cx="48911040" cy="119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0928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7196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09280" y="22765680"/>
            <a:ext cx="11636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6"/>
          <p:cNvSpPr/>
          <p:nvPr/>
        </p:nvSpPr>
        <p:spPr>
          <a:xfrm>
            <a:off x="0" y="0"/>
            <a:ext cx="51206400" cy="56008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809640" y="6578640"/>
            <a:ext cx="11636280" cy="3099096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5600880"/>
            <a:ext cx="51206400" cy="15228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Text Box 14"/>
          <p:cNvSpPr/>
          <p:nvPr/>
        </p:nvSpPr>
        <p:spPr>
          <a:xfrm>
            <a:off x="711360" y="37852200"/>
            <a:ext cx="293364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>
              <a:lnSpc>
                <a:spcPct val="6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TEMPLATE DESIGN © 2008</a:t>
            </a:r>
            <a:endParaRPr b="0" lang="en-US" sz="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www.PosterPresentations.co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09280" y="6578640"/>
            <a:ext cx="11636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marL="398520" indent="-3985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8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332000" indent="-265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865160" indent="-264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398680" indent="-264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398680" indent="-264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398680" indent="-264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5"/>
          <p:cNvSpPr/>
          <p:nvPr/>
        </p:nvSpPr>
        <p:spPr>
          <a:xfrm>
            <a:off x="0" y="0"/>
            <a:ext cx="51206400" cy="38404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Rectangle 32"/>
          <p:cNvSpPr/>
          <p:nvPr/>
        </p:nvSpPr>
        <p:spPr>
          <a:xfrm>
            <a:off x="13404960" y="6578640"/>
            <a:ext cx="11645640" cy="3099096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Rectangle 34"/>
          <p:cNvSpPr/>
          <p:nvPr/>
        </p:nvSpPr>
        <p:spPr>
          <a:xfrm>
            <a:off x="25984080" y="6578640"/>
            <a:ext cx="11646000" cy="3099096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Rectangle 35"/>
          <p:cNvSpPr/>
          <p:nvPr/>
        </p:nvSpPr>
        <p:spPr>
          <a:xfrm>
            <a:off x="38592000" y="6578640"/>
            <a:ext cx="11646000" cy="3099096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51206400" cy="56008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809640" y="6578640"/>
            <a:ext cx="11636280" cy="3099096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5600880"/>
            <a:ext cx="51206400" cy="15228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11360" y="37852200"/>
            <a:ext cx="293364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>
              <a:lnSpc>
                <a:spcPct val="6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POSTER TEMPLATE BY:</a:t>
            </a:r>
            <a:endParaRPr b="0" lang="en-US" sz="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www.PosterPresentations.co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09280" y="6578640"/>
            <a:ext cx="11636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marL="398520" indent="-3985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8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332000" indent="-265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865160" indent="-264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398680" indent="-264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398680" indent="-264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398680" indent="-264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51206400" cy="38404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13404960" y="6578640"/>
            <a:ext cx="24225120" cy="3099096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8592000" y="6578640"/>
            <a:ext cx="11646000" cy="3099096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51206400" cy="56008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9640" y="6578640"/>
            <a:ext cx="49428360" cy="3099096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5600880"/>
            <a:ext cx="51206400" cy="15228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11360" y="37852200"/>
            <a:ext cx="293364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>
              <a:lnSpc>
                <a:spcPct val="6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POSTER TEMPLATE BY:</a:t>
            </a:r>
            <a:endParaRPr b="0" lang="en-US" sz="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www.PosterPresentations.co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09640" y="6578640"/>
            <a:ext cx="492220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marL="398520" indent="-3985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8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332000" indent="-265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865160" indent="-264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398680" indent="-264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398680" indent="-264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398680" indent="-264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0" y="0"/>
            <a:ext cx="51206400" cy="38404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5280120" y="571680"/>
            <a:ext cx="40566960" cy="46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lnSpc>
                <a:spcPct val="100000"/>
              </a:lnSpc>
              <a:spcBef>
                <a:spcPts val="5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300" spc="-1" strike="noStrike">
                <a:solidFill>
                  <a:srgbClr val="000000"/>
                </a:solidFill>
                <a:latin typeface="Arial Black"/>
              </a:rPr>
              <a:t>Effect of Oral Stimulation on Feeding Progression                     in Preterm Infants</a:t>
            </a:r>
            <a:endParaRPr b="0" lang="en-US" sz="93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Brenda S. Lessen, PhD, RN</a:t>
            </a:r>
            <a:endParaRPr b="0" lang="en-US" sz="5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Illinois Wesleyan University, School of Nursing</a:t>
            </a:r>
            <a:endParaRPr b="0" lang="en-US" sz="5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819000" y="1110132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Feeding Difficulties in Preterm Infants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Text Box 388"/>
          <p:cNvSpPr/>
          <p:nvPr/>
        </p:nvSpPr>
        <p:spPr>
          <a:xfrm>
            <a:off x="800280" y="22712400"/>
            <a:ext cx="1164564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Clinical Problem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Text Box 405"/>
          <p:cNvSpPr/>
          <p:nvPr/>
        </p:nvSpPr>
        <p:spPr>
          <a:xfrm>
            <a:off x="13404960" y="6564240"/>
            <a:ext cx="1164564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Purpose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Text Box 410"/>
          <p:cNvSpPr/>
          <p:nvPr/>
        </p:nvSpPr>
        <p:spPr>
          <a:xfrm>
            <a:off x="13404960" y="14287680"/>
            <a:ext cx="1164564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Design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Text Box 417"/>
          <p:cNvSpPr/>
          <p:nvPr/>
        </p:nvSpPr>
        <p:spPr>
          <a:xfrm>
            <a:off x="13804920" y="25617600"/>
            <a:ext cx="1968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Sample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Text Box 437"/>
          <p:cNvSpPr/>
          <p:nvPr/>
        </p:nvSpPr>
        <p:spPr>
          <a:xfrm>
            <a:off x="25984080" y="1771344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Control Condition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Text Box 479"/>
          <p:cNvSpPr/>
          <p:nvPr/>
        </p:nvSpPr>
        <p:spPr>
          <a:xfrm>
            <a:off x="38592000" y="2062656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Results- Length of Stay (from 29 weeks PMA)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Text Box 480"/>
          <p:cNvSpPr/>
          <p:nvPr/>
        </p:nvSpPr>
        <p:spPr>
          <a:xfrm>
            <a:off x="38592000" y="2906388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Limitations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Text Box 388"/>
          <p:cNvSpPr/>
          <p:nvPr/>
        </p:nvSpPr>
        <p:spPr>
          <a:xfrm>
            <a:off x="819000" y="1827864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Oral Musculature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Text Box 388"/>
          <p:cNvSpPr/>
          <p:nvPr/>
        </p:nvSpPr>
        <p:spPr>
          <a:xfrm>
            <a:off x="819000" y="2713212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Oral Stimulation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Text Box 388"/>
          <p:cNvSpPr/>
          <p:nvPr/>
        </p:nvSpPr>
        <p:spPr>
          <a:xfrm>
            <a:off x="25984080" y="2649204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Beckman Oral Motor Intervention-Premature Infant (BOMI-PI)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53" name="Group 114"/>
          <p:cNvGrpSpPr/>
          <p:nvPr/>
        </p:nvGrpSpPr>
        <p:grpSpPr>
          <a:xfrm>
            <a:off x="2216160" y="12244320"/>
            <a:ext cx="8921880" cy="5403960"/>
            <a:chOff x="2216160" y="12244320"/>
            <a:chExt cx="8921880" cy="5403960"/>
          </a:xfrm>
        </p:grpSpPr>
        <p:sp>
          <p:nvSpPr>
            <p:cNvPr id="154" name="AutoShape 3"/>
            <p:cNvSpPr/>
            <p:nvPr/>
          </p:nvSpPr>
          <p:spPr>
            <a:xfrm>
              <a:off x="7814880" y="13836600"/>
              <a:ext cx="3323160" cy="1836000"/>
            </a:xfrm>
            <a:prstGeom prst="flowChartProcess">
              <a:avLst/>
            </a:prstGeom>
            <a:solidFill>
              <a:srgbClr val="00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eeding difficulty and 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rolonged hospitalization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55" name="Group 4"/>
            <p:cNvGrpSpPr/>
            <p:nvPr/>
          </p:nvGrpSpPr>
          <p:grpSpPr>
            <a:xfrm>
              <a:off x="2216160" y="16576560"/>
              <a:ext cx="4198320" cy="1071720"/>
              <a:chOff x="2216160" y="16576560"/>
              <a:chExt cx="4198320" cy="1071720"/>
            </a:xfrm>
          </p:grpSpPr>
          <p:sp>
            <p:nvSpPr>
              <p:cNvPr id="156" name="Rectangle 6"/>
              <p:cNvSpPr/>
              <p:nvPr/>
            </p:nvSpPr>
            <p:spPr>
              <a:xfrm>
                <a:off x="2216160" y="16576560"/>
                <a:ext cx="4198320" cy="1071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" name="Rectangle 5"/>
              <p:cNvSpPr/>
              <p:nvPr/>
            </p:nvSpPr>
            <p:spPr>
              <a:xfrm>
                <a:off x="2216160" y="16832520"/>
                <a:ext cx="419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ability to maintain physiological stability and weight during oral feeding progression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58" name="Group 7"/>
            <p:cNvGrpSpPr/>
            <p:nvPr/>
          </p:nvGrpSpPr>
          <p:grpSpPr>
            <a:xfrm>
              <a:off x="2216160" y="14275440"/>
              <a:ext cx="4198320" cy="972360"/>
              <a:chOff x="2216160" y="14275440"/>
              <a:chExt cx="4198320" cy="972360"/>
            </a:xfrm>
          </p:grpSpPr>
          <p:sp>
            <p:nvSpPr>
              <p:cNvPr id="159" name="Rectangle 9"/>
              <p:cNvSpPr/>
              <p:nvPr/>
            </p:nvSpPr>
            <p:spPr>
              <a:xfrm>
                <a:off x="2216160" y="14275440"/>
                <a:ext cx="4198320" cy="972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" name="Rectangle 8"/>
              <p:cNvSpPr/>
              <p:nvPr/>
            </p:nvSpPr>
            <p:spPr>
              <a:xfrm>
                <a:off x="2216160" y="14466960"/>
                <a:ext cx="419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Lack of coordination of 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uck, swallow, &amp; breath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61" name="Group 10"/>
            <p:cNvGrpSpPr/>
            <p:nvPr/>
          </p:nvGrpSpPr>
          <p:grpSpPr>
            <a:xfrm>
              <a:off x="2216160" y="12244320"/>
              <a:ext cx="4198320" cy="910440"/>
              <a:chOff x="2216160" y="12244320"/>
              <a:chExt cx="4198320" cy="910440"/>
            </a:xfrm>
          </p:grpSpPr>
          <p:sp>
            <p:nvSpPr>
              <p:cNvPr id="162" name="Rectangle 12"/>
              <p:cNvSpPr/>
              <p:nvPr/>
            </p:nvSpPr>
            <p:spPr>
              <a:xfrm>
                <a:off x="2216160" y="12244320"/>
                <a:ext cx="4198320" cy="91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" name="Rectangle 11"/>
              <p:cNvSpPr/>
              <p:nvPr/>
            </p:nvSpPr>
            <p:spPr>
              <a:xfrm>
                <a:off x="2216160" y="12420360"/>
                <a:ext cx="419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unctional and neurologic immaturity of the oral motor structures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164" name="Line 16"/>
            <p:cNvSpPr/>
            <p:nvPr/>
          </p:nvSpPr>
          <p:spPr>
            <a:xfrm>
              <a:off x="6414840" y="12686040"/>
              <a:ext cx="1311840" cy="1591200"/>
            </a:xfrm>
            <a:prstGeom prst="line">
              <a:avLst/>
            </a:prstGeom>
            <a:ln w="9360">
              <a:solidFill>
                <a:srgbClr val="7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5" name="Line 17"/>
            <p:cNvSpPr/>
            <p:nvPr/>
          </p:nvSpPr>
          <p:spPr>
            <a:xfrm>
              <a:off x="6414840" y="14719680"/>
              <a:ext cx="1311840" cy="0"/>
            </a:xfrm>
            <a:prstGeom prst="line">
              <a:avLst/>
            </a:prstGeom>
            <a:ln w="9360">
              <a:solidFill>
                <a:srgbClr val="7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6" name="Line 19"/>
            <p:cNvSpPr/>
            <p:nvPr/>
          </p:nvSpPr>
          <p:spPr>
            <a:xfrm flipV="1">
              <a:off x="6414840" y="15514920"/>
              <a:ext cx="1311840" cy="1503000"/>
            </a:xfrm>
            <a:prstGeom prst="line">
              <a:avLst/>
            </a:prstGeom>
            <a:ln w="9360">
              <a:solidFill>
                <a:srgbClr val="7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67" name="Group 20"/>
            <p:cNvGrpSpPr/>
            <p:nvPr/>
          </p:nvGrpSpPr>
          <p:grpSpPr>
            <a:xfrm>
              <a:off x="2216160" y="13394520"/>
              <a:ext cx="4198320" cy="788040"/>
              <a:chOff x="2216160" y="13394520"/>
              <a:chExt cx="4198320" cy="788040"/>
            </a:xfrm>
          </p:grpSpPr>
          <p:sp>
            <p:nvSpPr>
              <p:cNvPr id="168" name="Rectangle 22"/>
              <p:cNvSpPr/>
              <p:nvPr/>
            </p:nvSpPr>
            <p:spPr>
              <a:xfrm>
                <a:off x="2216160" y="13394520"/>
                <a:ext cx="4198320" cy="73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9" name="Rectangle 21"/>
              <p:cNvSpPr/>
              <p:nvPr/>
            </p:nvSpPr>
            <p:spPr>
              <a:xfrm>
                <a:off x="2216160" y="13601880"/>
                <a:ext cx="419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mmature sucking skills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70" name="Group 23"/>
            <p:cNvGrpSpPr/>
            <p:nvPr/>
          </p:nvGrpSpPr>
          <p:grpSpPr>
            <a:xfrm>
              <a:off x="2216160" y="15515280"/>
              <a:ext cx="4198320" cy="795600"/>
              <a:chOff x="2216160" y="15515280"/>
              <a:chExt cx="4198320" cy="795600"/>
            </a:xfrm>
          </p:grpSpPr>
          <p:sp>
            <p:nvSpPr>
              <p:cNvPr id="171" name="Rectangle 25"/>
              <p:cNvSpPr/>
              <p:nvPr/>
            </p:nvSpPr>
            <p:spPr>
              <a:xfrm>
                <a:off x="2216160" y="15515280"/>
                <a:ext cx="4198320" cy="795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2" name="Rectangle 24"/>
              <p:cNvSpPr/>
              <p:nvPr/>
            </p:nvSpPr>
            <p:spPr>
              <a:xfrm>
                <a:off x="2216160" y="15736320"/>
                <a:ext cx="41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xposure to negative oral stimuli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173" name="Line 26"/>
            <p:cNvSpPr/>
            <p:nvPr/>
          </p:nvSpPr>
          <p:spPr>
            <a:xfrm>
              <a:off x="6414840" y="13747320"/>
              <a:ext cx="1311840" cy="795600"/>
            </a:xfrm>
            <a:prstGeom prst="line">
              <a:avLst/>
            </a:prstGeom>
            <a:ln w="9360">
              <a:solidFill>
                <a:srgbClr val="7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V="1">
              <a:off x="6414840" y="15161760"/>
              <a:ext cx="1311840" cy="707040"/>
            </a:xfrm>
            <a:prstGeom prst="line">
              <a:avLst/>
            </a:prstGeom>
            <a:ln w="9360">
              <a:solidFill>
                <a:srgbClr val="7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75" name="Group 136"/>
          <p:cNvGrpSpPr/>
          <p:nvPr/>
        </p:nvGrpSpPr>
        <p:grpSpPr>
          <a:xfrm>
            <a:off x="2685960" y="23868000"/>
            <a:ext cx="8153640" cy="1600200"/>
            <a:chOff x="2685960" y="23868000"/>
            <a:chExt cx="8153640" cy="1600200"/>
          </a:xfrm>
        </p:grpSpPr>
        <p:sp>
          <p:nvSpPr>
            <p:cNvPr id="176" name="AutoShape 3"/>
            <p:cNvSpPr/>
            <p:nvPr/>
          </p:nvSpPr>
          <p:spPr>
            <a:xfrm>
              <a:off x="2685960" y="23868000"/>
              <a:ext cx="3124080" cy="160020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Difficulty Feeding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>
              <a:off x="5200560" y="23868000"/>
              <a:ext cx="3124080" cy="160020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44" y="0"/>
                  </a:lnTo>
                  <a:lnTo>
                    <a:pt x="21600" y="10800"/>
                  </a:lnTo>
                  <a:lnTo>
                    <a:pt x="16244" y="21600"/>
                  </a:lnTo>
                  <a:lnTo>
                    <a:pt x="0" y="21600"/>
                  </a:lnTo>
                  <a:lnTo>
                    <a:pt x="5356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            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>
              <a:off x="7715520" y="23868000"/>
              <a:ext cx="3124080" cy="160020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44" y="0"/>
                  </a:lnTo>
                  <a:lnTo>
                    <a:pt x="21600" y="10800"/>
                  </a:lnTo>
                  <a:lnTo>
                    <a:pt x="16244" y="21600"/>
                  </a:lnTo>
                  <a:lnTo>
                    <a:pt x="0" y="21600"/>
                  </a:lnTo>
                  <a:lnTo>
                    <a:pt x="5356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9" name="TextBox 140"/>
            <p:cNvSpPr/>
            <p:nvPr/>
          </p:nvSpPr>
          <p:spPr>
            <a:xfrm>
              <a:off x="5962680" y="24325200"/>
              <a:ext cx="2209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Prolonged Length of Hospital Stay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0" name="TextBox 141"/>
            <p:cNvSpPr/>
            <p:nvPr/>
          </p:nvSpPr>
          <p:spPr>
            <a:xfrm>
              <a:off x="8629920" y="244584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Higher Costs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81" name="Text Box 9"/>
          <p:cNvSpPr/>
          <p:nvPr/>
        </p:nvSpPr>
        <p:spPr>
          <a:xfrm>
            <a:off x="853920" y="25746120"/>
            <a:ext cx="112856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34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Need evidence-based interventions to facilitate successful feeding, thus shortening length of stay, &amp; cutting cost of care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Rectangle 143"/>
          <p:cNvSpPr/>
          <p:nvPr/>
        </p:nvSpPr>
        <p:spPr>
          <a:xfrm>
            <a:off x="1425600" y="19324800"/>
            <a:ext cx="1137600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2e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Preterm infants have poor oral-motor control related to: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lvl="1" marL="1828800" indent="-457200">
              <a:lnSpc>
                <a:spcPct val="100000"/>
              </a:lnSpc>
              <a:spcAft>
                <a:spcPts val="601"/>
              </a:spcAft>
              <a:buClr>
                <a:srgbClr val="002e5c"/>
              </a:buClr>
              <a:buFont typeface="Times New Roman"/>
              <a:buChar char="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weaker muscle tone around mouth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lvl="1" marL="1828800" indent="-457200">
              <a:lnSpc>
                <a:spcPct val="100000"/>
              </a:lnSpc>
              <a:spcAft>
                <a:spcPts val="601"/>
              </a:spcAft>
              <a:buClr>
                <a:srgbClr val="002e5c"/>
              </a:buClr>
              <a:buFont typeface="Times New Roman"/>
              <a:buChar char="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less sensation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lvl="1" marL="1828800" indent="-457200">
              <a:lnSpc>
                <a:spcPct val="100000"/>
              </a:lnSpc>
              <a:spcAft>
                <a:spcPts val="601"/>
              </a:spcAft>
              <a:buClr>
                <a:srgbClr val="002e5c"/>
              </a:buClr>
              <a:buFont typeface="Times New Roman"/>
              <a:buChar char="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less tongue strength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601"/>
              </a:spcAft>
              <a:buClr>
                <a:srgbClr val="002e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Decreased sucking strength and endurance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885960" y="27524160"/>
            <a:ext cx="11731320" cy="60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440" rIns="532440" tIns="532440" bIns="532440" anchor="t">
            <a:noAutofit/>
          </a:bodyPr>
          <a:p>
            <a:pPr marL="457200" indent="-457200"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Oral Stimulation = Stroking and/or pressure to structures in and around the mouth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More complex, targeted intervention than non-nutritive sucking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Supplemental oral stimulation </a:t>
            </a:r>
            <a:r>
              <a:rPr b="0" lang="en-US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 increase functional strength and control of movement for feeding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The few studies re: oral stimulation are limited to preterm infants who received oral stimulation when they were 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  <a:ea typeface="Arial"/>
              </a:rPr>
              <a:t>≥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 31 weeks PMA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No studies where oral stimulation was done exclusively prior to the initiation of oral feeding (pre-feeding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8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3404960" y="6973920"/>
            <a:ext cx="11645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440" rIns="532440" tIns="532440" bIns="532440" anchor="t">
            <a:noAutofit/>
          </a:bodyPr>
          <a:p>
            <a:pPr marL="457200" indent="-457200">
              <a:lnSpc>
                <a:spcPct val="90000"/>
              </a:lnSpc>
              <a:spcBef>
                <a:spcPts val="850"/>
              </a:spcBef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To assess the effect of a prefeeding oral stimulation intervention on feeding progression and length of hospital stay on preterm infants &lt; 30 weeks PMA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Text Box 405"/>
          <p:cNvSpPr/>
          <p:nvPr/>
        </p:nvSpPr>
        <p:spPr>
          <a:xfrm>
            <a:off x="13414320" y="916452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Research Questions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Rectangle 147"/>
          <p:cNvSpPr/>
          <p:nvPr/>
        </p:nvSpPr>
        <p:spPr>
          <a:xfrm>
            <a:off x="13801680" y="10110960"/>
            <a:ext cx="10972800" cy="39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Will the oral stimulation intervention given prior to a feeding once per day for 7 consecutive days result in a </a:t>
            </a: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faster transition from gavage to total oral feedings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 when compared to controls who will receive routine NICU care?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Will the oral stimulation intervention given prior to a feeding once per day for 7 consecutive days result in a </a:t>
            </a: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horter length of hospital stay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 when compared to controls who will receive routine NICU care?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Rectangle 148"/>
          <p:cNvSpPr/>
          <p:nvPr/>
        </p:nvSpPr>
        <p:spPr>
          <a:xfrm>
            <a:off x="13862160" y="15138360"/>
            <a:ext cx="10369440" cy="29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Double blind, experimental design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Short term longitudinal study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Block randomized to experimental or control group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Pilot study to test intervention methods, safety and efficacy on 29 week PMA infant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Text Box 417"/>
          <p:cNvSpPr/>
          <p:nvPr/>
        </p:nvSpPr>
        <p:spPr>
          <a:xfrm>
            <a:off x="13795200" y="18283320"/>
            <a:ext cx="18640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Setting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9" name="Rectangle 150" descr=""/>
          <p:cNvPicPr/>
          <p:nvPr/>
        </p:nvPicPr>
        <p:blipFill>
          <a:blip r:embed="rId1"/>
          <a:stretch/>
        </p:blipFill>
        <p:spPr>
          <a:xfrm>
            <a:off x="13660560" y="18878400"/>
            <a:ext cx="11088720" cy="39942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51"/>
          <p:cNvSpPr/>
          <p:nvPr/>
        </p:nvSpPr>
        <p:spPr>
          <a:xfrm>
            <a:off x="26474760" y="21858120"/>
            <a:ext cx="1124100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Oral Stimulation using Beckman*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Once per day for 7 consecutive day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Done 15-30 minutes prior to a gavage feeding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Begins at 29 weeks PMA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ontinuous  EKG/SaO2 monitoring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Done by PI and trained RA’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urtain pulled for blinding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*Beckman Oral Motor Intervention-Premature Infant  (BOMI-PI)                 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Rectangle 152"/>
          <p:cNvSpPr/>
          <p:nvPr/>
        </p:nvSpPr>
        <p:spPr>
          <a:xfrm>
            <a:off x="26495280" y="27587520"/>
            <a:ext cx="10909440" cy="42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7720" indent="-477720">
              <a:lnSpc>
                <a:spcPct val="9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Provides assisted movement to activate muscle contraction and provides movement against resistance to build strength.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77720" indent="-477720">
              <a:lnSpc>
                <a:spcPct val="9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Focus is to increase functional response to pressure and movement, and control of movement for the lips, cheeks, jaw, and tongue.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77720" indent="-477720">
              <a:lnSpc>
                <a:spcPct val="9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heeks, lips, gums, tongue and palate were stimulated per specific protocol with finger stroking for 3 minutes 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77720" indent="-477720">
              <a:lnSpc>
                <a:spcPct val="9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Ends with non-nutritive sucking for 2 minute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7897120" y="32307120"/>
          <a:ext cx="7772400" cy="4449960"/>
        </p:xfrm>
        <a:graphic>
          <a:graphicData uri="http://schemas.openxmlformats.org/drawingml/2006/table">
            <a:tbl>
              <a:tblPr/>
              <a:tblGrid>
                <a:gridCol w="2911320"/>
                <a:gridCol w="2441880"/>
                <a:gridCol w="1434960"/>
                <a:gridCol w="984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b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b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b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bac9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ek Stre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 range of motion and strength of cheeks, and improve lip se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x each che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s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p Stre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 lip range of motion and se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X each l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s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and Lower Lip Cu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 lip strength, range of motion, and se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X each l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s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m Mass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 range of motion of tongue, stimulate swallow, and improve suc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s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eral Borders of Tong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 tongue range of motion and strengt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X ea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s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blade of Tong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 tongue range of motion and strength, stimulate swallow, and improve suc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s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icit a Su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 suck, and soft palate activ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s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Nutritive Suc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 suck, and soft palate activ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3" name="Rectangle 154"/>
          <p:cNvSpPr/>
          <p:nvPr/>
        </p:nvSpPr>
        <p:spPr>
          <a:xfrm>
            <a:off x="13814280" y="26311320"/>
            <a:ext cx="1096020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300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onvenience sample  n = 19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Aft>
                <a:spcPts val="300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Preterm infants born AGA between 26-29 weeks PMA 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Aft>
                <a:spcPts val="300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linically stable 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Aft>
                <a:spcPts val="300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Exclusion criteria: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lvl="1" marL="531720">
              <a:lnSpc>
                <a:spcPct val="90000"/>
              </a:lnSpc>
              <a:spcAft>
                <a:spcPts val="300"/>
              </a:spcAft>
              <a:buClr>
                <a:srgbClr val="0034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genital anomal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31720">
              <a:lnSpc>
                <a:spcPct val="90000"/>
              </a:lnSpc>
              <a:spcAft>
                <a:spcPts val="300"/>
              </a:spcAft>
              <a:buClr>
                <a:srgbClr val="0034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E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31720">
              <a:lnSpc>
                <a:spcPct val="90000"/>
              </a:lnSpc>
              <a:spcAft>
                <a:spcPts val="300"/>
              </a:spcAft>
              <a:buClr>
                <a:srgbClr val="0034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rain Injury (including IVH &gt; grade1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31720">
              <a:lnSpc>
                <a:spcPct val="90000"/>
              </a:lnSpc>
              <a:spcAft>
                <a:spcPts val="300"/>
              </a:spcAft>
              <a:buClr>
                <a:srgbClr val="0034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enatal illicit drug exposu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31720">
              <a:lnSpc>
                <a:spcPct val="90000"/>
              </a:lnSpc>
              <a:spcAft>
                <a:spcPts val="300"/>
              </a:spcAft>
              <a:buClr>
                <a:srgbClr val="0034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ssisted ventilation (hi-flow nasal cannula allowed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4130360" y="30807000"/>
            <a:ext cx="10129680" cy="620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440" rIns="532440" tIns="532440" bIns="532440" anchor="t">
            <a:noAutofit/>
          </a:bodyPr>
          <a:p>
            <a:pPr marL="398520" indent="-39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xperimental (n=10)         Control (n=9)                *P valu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 ± SD                           M ± S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MA+ (weeks)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At bir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28.1  ±.6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28.0  ± .9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0.842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CS^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At bir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4.4   ± .5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4.3  ± .7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0.968   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At entry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3.8   ± .9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3.8  ± .7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0.968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eight (grams)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At birth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           1017.3   ±  127.1              913.3   ±   87.8                          0.028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At entry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991.0   ±  124.6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915.5   ± 145.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0.079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arent feedings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During feeding prog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                 3.2 ± 2.6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3.0  ±  3.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0.661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Total to discharg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1.6 ± 1.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2.2  ±  2.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0.458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+  PMA = Post Menstrual Ag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^  PCS =Postnatal Complications Sco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  Mann-Whitney Test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Rectangle 174"/>
          <p:cNvSpPr/>
          <p:nvPr/>
        </p:nvSpPr>
        <p:spPr>
          <a:xfrm>
            <a:off x="38862000" y="12011040"/>
            <a:ext cx="11258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oral stimulation group transitioned to total oral feeding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5 days soone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han controls   (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0.043)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29 week PMA infants tolerated BOMI-PI. Of the182 times oral stim done, it was never terminated due to adverse responses of infants.  There were only 4 delays for apnea in which infant self-corrected, and oral stim was continu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Text Box 479"/>
          <p:cNvSpPr/>
          <p:nvPr/>
        </p:nvSpPr>
        <p:spPr>
          <a:xfrm>
            <a:off x="38592000" y="1433664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Feeding Progression Within the 6 Phases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Rectangle 188"/>
          <p:cNvSpPr/>
          <p:nvPr/>
        </p:nvSpPr>
        <p:spPr>
          <a:xfrm>
            <a:off x="39133440" y="26831880"/>
            <a:ext cx="1072044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The oral stimulation group was discharged </a:t>
            </a: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2.6 days sooner 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than controls   </a:t>
            </a:r>
            <a:r>
              <a:rPr b="0" i="1" lang="en-US" sz="3400" spc="-1" strike="noStrike">
                <a:solidFill>
                  <a:srgbClr val="000000"/>
                </a:solidFill>
                <a:latin typeface="Arial Narrow"/>
              </a:rPr>
              <a:t>(p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 = .541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A 3-day decrease in LOS would save our nation more than      $2 billion annually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Text Box 388"/>
          <p:cNvSpPr/>
          <p:nvPr/>
        </p:nvSpPr>
        <p:spPr>
          <a:xfrm>
            <a:off x="25984080" y="2090412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Experimental Condition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Rectangle 190"/>
          <p:cNvSpPr/>
          <p:nvPr/>
        </p:nvSpPr>
        <p:spPr>
          <a:xfrm>
            <a:off x="26590680" y="18767520"/>
            <a:ext cx="102186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PI/RA stands with hands inside Isolette, not touching infant, for 5 minute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urtain is pulled for blinding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Text Box 480"/>
          <p:cNvSpPr/>
          <p:nvPr/>
        </p:nvSpPr>
        <p:spPr>
          <a:xfrm>
            <a:off x="25987320" y="655308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Study Timeline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01" name="Group 201"/>
          <p:cNvGrpSpPr/>
          <p:nvPr/>
        </p:nvGrpSpPr>
        <p:grpSpPr>
          <a:xfrm>
            <a:off x="26601840" y="7537320"/>
            <a:ext cx="10482120" cy="4065840"/>
            <a:chOff x="26601840" y="7537320"/>
            <a:chExt cx="10482120" cy="4065840"/>
          </a:xfrm>
        </p:grpSpPr>
        <p:sp>
          <p:nvSpPr>
            <p:cNvPr id="202" name="Line 4"/>
            <p:cNvSpPr/>
            <p:nvPr/>
          </p:nvSpPr>
          <p:spPr>
            <a:xfrm>
              <a:off x="27042120" y="8919360"/>
              <a:ext cx="9158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3" name="Text Box 5"/>
            <p:cNvSpPr/>
            <p:nvPr/>
          </p:nvSpPr>
          <p:spPr>
            <a:xfrm>
              <a:off x="26865720" y="7537320"/>
              <a:ext cx="24656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 Narrow"/>
                </a:rPr>
                <a:t>26-29</a:t>
              </a: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4" name="Text Box 6"/>
            <p:cNvSpPr/>
            <p:nvPr/>
          </p:nvSpPr>
          <p:spPr>
            <a:xfrm>
              <a:off x="29507760" y="7537320"/>
              <a:ext cx="15850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 Narrow"/>
                </a:rPr>
                <a:t>29 </a:t>
              </a: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5" name="Text Box 7"/>
            <p:cNvSpPr/>
            <p:nvPr/>
          </p:nvSpPr>
          <p:spPr>
            <a:xfrm>
              <a:off x="30652560" y="7537320"/>
              <a:ext cx="20253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 Narrow"/>
                </a:rPr>
                <a:t>30</a:t>
              </a: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>
              <a:off x="27042120" y="8366400"/>
              <a:ext cx="0" cy="1566360"/>
            </a:xfrm>
            <a:prstGeom prst="line">
              <a:avLst/>
            </a:prstGeom>
            <a:ln w="19080">
              <a:solidFill>
                <a:srgbClr val="7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7" name="Line 13"/>
            <p:cNvSpPr/>
            <p:nvPr/>
          </p:nvSpPr>
          <p:spPr>
            <a:xfrm>
              <a:off x="29772000" y="8274240"/>
              <a:ext cx="0" cy="1566360"/>
            </a:xfrm>
            <a:prstGeom prst="line">
              <a:avLst/>
            </a:prstGeom>
            <a:ln w="19080">
              <a:solidFill>
                <a:srgbClr val="7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8" name="Line 14"/>
            <p:cNvSpPr/>
            <p:nvPr/>
          </p:nvSpPr>
          <p:spPr>
            <a:xfrm>
              <a:off x="30916800" y="8274240"/>
              <a:ext cx="0" cy="1566360"/>
            </a:xfrm>
            <a:prstGeom prst="line">
              <a:avLst/>
            </a:prstGeom>
            <a:ln w="19080">
              <a:solidFill>
                <a:srgbClr val="7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9" name="Text Box 16"/>
            <p:cNvSpPr/>
            <p:nvPr/>
          </p:nvSpPr>
          <p:spPr>
            <a:xfrm>
              <a:off x="27882720" y="7700400"/>
              <a:ext cx="140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weeks</a:t>
              </a:r>
              <a:r>
                <a:rPr b="1" lang="en-US" sz="2000" spc="-1" strike="noStrike">
                  <a:solidFill>
                    <a:srgbClr val="aabac9"/>
                  </a:solidFill>
                  <a:latin typeface="Arial Narro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PMA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0" name="Text Box 17"/>
            <p:cNvSpPr/>
            <p:nvPr/>
          </p:nvSpPr>
          <p:spPr>
            <a:xfrm>
              <a:off x="26601840" y="10117440"/>
              <a:ext cx="21132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 Narrow"/>
                </a:rPr>
                <a:t>Eligible</a:t>
              </a: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1" name="Text Box 19"/>
            <p:cNvSpPr/>
            <p:nvPr/>
          </p:nvSpPr>
          <p:spPr>
            <a:xfrm>
              <a:off x="29297520" y="9933120"/>
              <a:ext cx="149688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 Narrow"/>
                </a:rPr>
                <a:t>Oral Stim Begins</a:t>
              </a: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2" name="Text Box 20"/>
            <p:cNvSpPr/>
            <p:nvPr/>
          </p:nvSpPr>
          <p:spPr>
            <a:xfrm>
              <a:off x="30709440" y="9956160"/>
              <a:ext cx="149688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 Narrow"/>
                </a:rPr>
                <a:t>Oral Stim Ends</a:t>
              </a: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3" name="Text Box 21"/>
            <p:cNvSpPr/>
            <p:nvPr/>
          </p:nvSpPr>
          <p:spPr>
            <a:xfrm>
              <a:off x="35001720" y="8827200"/>
              <a:ext cx="20822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 Narrow"/>
                </a:rPr>
                <a:t>Discharge</a:t>
              </a: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4" name="Text Box 22"/>
            <p:cNvSpPr/>
            <p:nvPr/>
          </p:nvSpPr>
          <p:spPr>
            <a:xfrm>
              <a:off x="27013680" y="8827200"/>
              <a:ext cx="10566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 Narrow"/>
                </a:rPr>
                <a:t>Birth</a:t>
              </a: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5" name="Text Box 23"/>
            <p:cNvSpPr/>
            <p:nvPr/>
          </p:nvSpPr>
          <p:spPr>
            <a:xfrm>
              <a:off x="30948120" y="8827200"/>
              <a:ext cx="3755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 Narrow"/>
                </a:rPr>
                <a:t>Feeding Progression</a:t>
              </a: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16" name="Text Box 480"/>
          <p:cNvSpPr/>
          <p:nvPr/>
        </p:nvSpPr>
        <p:spPr>
          <a:xfrm>
            <a:off x="38592000" y="3213252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Future Research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Rectangle 232"/>
          <p:cNvSpPr/>
          <p:nvPr/>
        </p:nvSpPr>
        <p:spPr>
          <a:xfrm>
            <a:off x="39134880" y="29841840"/>
            <a:ext cx="919512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Small sample size (pilot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Breast milk and formula both used in bottle feeding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Heterogeneity of Birth Weight 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No Measurement of Behavioral State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Rectangle 233"/>
          <p:cNvSpPr/>
          <p:nvPr/>
        </p:nvSpPr>
        <p:spPr>
          <a:xfrm>
            <a:off x="39126960" y="32853240"/>
            <a:ext cx="11079360" cy="45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300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Larger study/larger sample size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300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Dose-response studie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lvl="2" marL="988920" indent="-457200">
              <a:lnSpc>
                <a:spcPct val="100000"/>
              </a:lnSpc>
              <a:spcAft>
                <a:spcPts val="300"/>
              </a:spcAft>
              <a:buClr>
                <a:srgbClr val="0034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times per da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88920" indent="-457200">
              <a:lnSpc>
                <a:spcPct val="100000"/>
              </a:lnSpc>
              <a:spcAft>
                <a:spcPts val="300"/>
              </a:spcAft>
              <a:buClr>
                <a:srgbClr val="0034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onger period of days (to discharge?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522440" indent="-457200">
              <a:lnSpc>
                <a:spcPct val="100000"/>
              </a:lnSpc>
              <a:spcAft>
                <a:spcPts val="300"/>
              </a:spcAft>
              <a:buClr>
                <a:srgbClr val="0034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ight before each gavage or during gavage?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522440" indent="-457200">
              <a:lnSpc>
                <a:spcPct val="100000"/>
              </a:lnSpc>
              <a:spcAft>
                <a:spcPts val="300"/>
              </a:spcAft>
              <a:buClr>
                <a:srgbClr val="0034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rease attrition by delaying start of oral stim by 1 week (30 weeks PMA)- if not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pr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eeding anymo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300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Nurse/Parent responses to the BOMI-PI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300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Measure Infant Behavioral State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819000" y="656424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Background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Rectangle 237"/>
          <p:cNvSpPr/>
          <p:nvPr/>
        </p:nvSpPr>
        <p:spPr>
          <a:xfrm>
            <a:off x="1463760" y="7588080"/>
            <a:ext cx="1021536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Preterm birth rate still rising (21% since 1990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Double the HP2010 goal of 7.6%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Over half million preterm infants born per year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LBW infants hospital stay averages $79,000 per infant 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Nationally - costs &gt;$20 billion annually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Text Box 478"/>
          <p:cNvSpPr/>
          <p:nvPr/>
        </p:nvSpPr>
        <p:spPr>
          <a:xfrm>
            <a:off x="38592000" y="657864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Results- Total Days to Full Oral Feedings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22" name="Group 268"/>
          <p:cNvGrpSpPr/>
          <p:nvPr/>
        </p:nvGrpSpPr>
        <p:grpSpPr>
          <a:xfrm>
            <a:off x="39620520" y="7473960"/>
            <a:ext cx="8937720" cy="4600080"/>
            <a:chOff x="39620520" y="7473960"/>
            <a:chExt cx="8937720" cy="4600080"/>
          </a:xfrm>
        </p:grpSpPr>
        <p:sp>
          <p:nvSpPr>
            <p:cNvPr id="223" name="Rectangle 269"/>
            <p:cNvSpPr/>
            <p:nvPr/>
          </p:nvSpPr>
          <p:spPr>
            <a:xfrm>
              <a:off x="40305960" y="7832160"/>
              <a:ext cx="3965760" cy="322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4" name="Rectangle 270"/>
            <p:cNvSpPr/>
            <p:nvPr/>
          </p:nvSpPr>
          <p:spPr>
            <a:xfrm>
              <a:off x="44640720" y="7832160"/>
              <a:ext cx="3873600" cy="322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225" name="Group 75"/>
            <p:cNvGrpSpPr/>
            <p:nvPr/>
          </p:nvGrpSpPr>
          <p:grpSpPr>
            <a:xfrm>
              <a:off x="39620520" y="7473960"/>
              <a:ext cx="8937720" cy="4600080"/>
              <a:chOff x="39620520" y="7473960"/>
              <a:chExt cx="8937720" cy="4600080"/>
            </a:xfrm>
          </p:grpSpPr>
          <p:sp>
            <p:nvSpPr>
              <p:cNvPr id="226" name="Text Box 4"/>
              <p:cNvSpPr/>
              <p:nvPr/>
            </p:nvSpPr>
            <p:spPr>
              <a:xfrm>
                <a:off x="45747720" y="7473960"/>
                <a:ext cx="1567800" cy="35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 Narrow"/>
                  </a:rPr>
                  <a:t>Experimental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7" name="Text Box 5"/>
              <p:cNvSpPr/>
              <p:nvPr/>
            </p:nvSpPr>
            <p:spPr>
              <a:xfrm>
                <a:off x="41505120" y="7473960"/>
                <a:ext cx="1383120" cy="35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    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 Narrow"/>
                  </a:rPr>
                  <a:t>Control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8" name="Text Box 6"/>
              <p:cNvSpPr/>
              <p:nvPr/>
            </p:nvSpPr>
            <p:spPr>
              <a:xfrm>
                <a:off x="41873760" y="11766960"/>
                <a:ext cx="147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M = 23.4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9" name="Text Box 7"/>
              <p:cNvSpPr/>
              <p:nvPr/>
            </p:nvSpPr>
            <p:spPr>
              <a:xfrm>
                <a:off x="45286560" y="11753640"/>
                <a:ext cx="1290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M = 18.1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0" name="Line 9"/>
              <p:cNvSpPr/>
              <p:nvPr/>
            </p:nvSpPr>
            <p:spPr>
              <a:xfrm flipV="1">
                <a:off x="45839880" y="9043560"/>
                <a:ext cx="0" cy="2777760"/>
              </a:xfrm>
              <a:prstGeom prst="line">
                <a:avLst/>
              </a:prstGeom>
              <a:ln w="28440">
                <a:solidFill>
                  <a:srgbClr val="0034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231" name="Group 14"/>
              <p:cNvGrpSpPr/>
              <p:nvPr/>
            </p:nvGrpSpPr>
            <p:grpSpPr>
              <a:xfrm>
                <a:off x="39620520" y="7964640"/>
                <a:ext cx="8937720" cy="3567240"/>
                <a:chOff x="39620520" y="7964640"/>
                <a:chExt cx="8937720" cy="3567240"/>
              </a:xfrm>
            </p:grpSpPr>
            <p:sp>
              <p:nvSpPr>
                <p:cNvPr id="232" name="Rectangle 17"/>
                <p:cNvSpPr/>
                <p:nvPr/>
              </p:nvSpPr>
              <p:spPr>
                <a:xfrm>
                  <a:off x="40884480" y="11050560"/>
                  <a:ext cx="36000" cy="70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Rectangle 18"/>
                <p:cNvSpPr/>
                <p:nvPr/>
              </p:nvSpPr>
              <p:spPr>
                <a:xfrm>
                  <a:off x="41870160" y="11050560"/>
                  <a:ext cx="36360" cy="70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4" name="Rectangle 19"/>
                <p:cNvSpPr/>
                <p:nvPr/>
              </p:nvSpPr>
              <p:spPr>
                <a:xfrm>
                  <a:off x="42857280" y="11050560"/>
                  <a:ext cx="34560" cy="70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5" name="Rectangle 20"/>
                <p:cNvSpPr/>
                <p:nvPr/>
              </p:nvSpPr>
              <p:spPr>
                <a:xfrm>
                  <a:off x="43843320" y="11050560"/>
                  <a:ext cx="34200" cy="70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6" name="Rectangle 21"/>
                <p:cNvSpPr/>
                <p:nvPr/>
              </p:nvSpPr>
              <p:spPr>
                <a:xfrm>
                  <a:off x="40880160" y="11136240"/>
                  <a:ext cx="982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7" name="Rectangle 22"/>
                <p:cNvSpPr/>
                <p:nvPr/>
              </p:nvSpPr>
              <p:spPr>
                <a:xfrm>
                  <a:off x="41865840" y="11136240"/>
                  <a:ext cx="982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8" name="Rectangle 23"/>
                <p:cNvSpPr/>
                <p:nvPr/>
              </p:nvSpPr>
              <p:spPr>
                <a:xfrm>
                  <a:off x="42853320" y="11136240"/>
                  <a:ext cx="982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25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9" name="Rectangle 24"/>
                <p:cNvSpPr/>
                <p:nvPr/>
              </p:nvSpPr>
              <p:spPr>
                <a:xfrm>
                  <a:off x="43839000" y="11136240"/>
                  <a:ext cx="982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0" name="Rectangle 25"/>
                <p:cNvSpPr/>
                <p:nvPr/>
              </p:nvSpPr>
              <p:spPr>
                <a:xfrm>
                  <a:off x="41615640" y="11364120"/>
                  <a:ext cx="14072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total days to full feed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1" name="Rectangle 28"/>
                <p:cNvSpPr/>
                <p:nvPr/>
              </p:nvSpPr>
              <p:spPr>
                <a:xfrm>
                  <a:off x="40221360" y="10275840"/>
                  <a:ext cx="90360" cy="27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2" name="Rectangle 29"/>
                <p:cNvSpPr/>
                <p:nvPr/>
              </p:nvSpPr>
              <p:spPr>
                <a:xfrm>
                  <a:off x="40221360" y="9513720"/>
                  <a:ext cx="903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3" name="Rectangle 30"/>
                <p:cNvSpPr/>
                <p:nvPr/>
              </p:nvSpPr>
              <p:spPr>
                <a:xfrm>
                  <a:off x="40221360" y="8754480"/>
                  <a:ext cx="90360" cy="27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4" name="Rectangle 31"/>
                <p:cNvSpPr/>
                <p:nvPr/>
              </p:nvSpPr>
              <p:spPr>
                <a:xfrm>
                  <a:off x="40221360" y="7994520"/>
                  <a:ext cx="90360" cy="27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5" name="Rectangle 32"/>
                <p:cNvSpPr/>
                <p:nvPr/>
              </p:nvSpPr>
              <p:spPr>
                <a:xfrm>
                  <a:off x="40168800" y="10247760"/>
                  <a:ext cx="4932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6" name="Rectangle 33"/>
                <p:cNvSpPr/>
                <p:nvPr/>
              </p:nvSpPr>
              <p:spPr>
                <a:xfrm>
                  <a:off x="40168800" y="9486000"/>
                  <a:ext cx="4932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7" name="Rectangle 34"/>
                <p:cNvSpPr/>
                <p:nvPr/>
              </p:nvSpPr>
              <p:spPr>
                <a:xfrm>
                  <a:off x="40168800" y="8726400"/>
                  <a:ext cx="4932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8" name="Rectangle 35"/>
                <p:cNvSpPr/>
                <p:nvPr/>
              </p:nvSpPr>
              <p:spPr>
                <a:xfrm>
                  <a:off x="40168800" y="7964640"/>
                  <a:ext cx="4932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9" name="Rectangle 36"/>
                <p:cNvSpPr/>
                <p:nvPr/>
              </p:nvSpPr>
              <p:spPr>
                <a:xfrm rot="16140000">
                  <a:off x="39505680" y="9284400"/>
                  <a:ext cx="4046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Count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0" name="Rectangle 37"/>
                <p:cNvSpPr/>
                <p:nvPr/>
              </p:nvSpPr>
              <p:spPr>
                <a:xfrm>
                  <a:off x="40312080" y="10288800"/>
                  <a:ext cx="481680" cy="761400"/>
                </a:xfrm>
                <a:prstGeom prst="rect">
                  <a:avLst/>
                </a:prstGeom>
                <a:solidFill>
                  <a:srgbClr val="7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1" name="Rectangle 38"/>
                <p:cNvSpPr/>
                <p:nvPr/>
              </p:nvSpPr>
              <p:spPr>
                <a:xfrm>
                  <a:off x="40312080" y="10288800"/>
                  <a:ext cx="481680" cy="7614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2" name="Rectangle 39"/>
                <p:cNvSpPr/>
                <p:nvPr/>
              </p:nvSpPr>
              <p:spPr>
                <a:xfrm>
                  <a:off x="41781600" y="8769240"/>
                  <a:ext cx="501480" cy="2280960"/>
                </a:xfrm>
                <a:prstGeom prst="rect">
                  <a:avLst/>
                </a:prstGeom>
                <a:solidFill>
                  <a:srgbClr val="7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3" name="Rectangle 40"/>
                <p:cNvSpPr/>
                <p:nvPr/>
              </p:nvSpPr>
              <p:spPr>
                <a:xfrm>
                  <a:off x="41781600" y="8769240"/>
                  <a:ext cx="501480" cy="22809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4" name="Rectangle 41"/>
                <p:cNvSpPr/>
                <p:nvPr/>
              </p:nvSpPr>
              <p:spPr>
                <a:xfrm>
                  <a:off x="42283080" y="9528840"/>
                  <a:ext cx="501480" cy="1521360"/>
                </a:xfrm>
                <a:prstGeom prst="rect">
                  <a:avLst/>
                </a:prstGeom>
                <a:solidFill>
                  <a:srgbClr val="7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5" name="Rectangle 42"/>
                <p:cNvSpPr/>
                <p:nvPr/>
              </p:nvSpPr>
              <p:spPr>
                <a:xfrm>
                  <a:off x="42283080" y="9528840"/>
                  <a:ext cx="501480" cy="1521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6" name="Rectangle 43"/>
                <p:cNvSpPr/>
                <p:nvPr/>
              </p:nvSpPr>
              <p:spPr>
                <a:xfrm>
                  <a:off x="42784560" y="10288800"/>
                  <a:ext cx="483840" cy="761400"/>
                </a:xfrm>
                <a:prstGeom prst="rect">
                  <a:avLst/>
                </a:prstGeom>
                <a:solidFill>
                  <a:srgbClr val="7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7" name="Rectangle 44"/>
                <p:cNvSpPr/>
                <p:nvPr/>
              </p:nvSpPr>
              <p:spPr>
                <a:xfrm>
                  <a:off x="42784560" y="10288800"/>
                  <a:ext cx="483840" cy="7614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8" name="Rectangle 45"/>
                <p:cNvSpPr/>
                <p:nvPr/>
              </p:nvSpPr>
              <p:spPr>
                <a:xfrm>
                  <a:off x="43770240" y="9528840"/>
                  <a:ext cx="483840" cy="1521360"/>
                </a:xfrm>
                <a:prstGeom prst="rect">
                  <a:avLst/>
                </a:prstGeom>
                <a:solidFill>
                  <a:srgbClr val="7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9" name="Rectangle 46"/>
                <p:cNvSpPr/>
                <p:nvPr/>
              </p:nvSpPr>
              <p:spPr>
                <a:xfrm>
                  <a:off x="43770240" y="9528840"/>
                  <a:ext cx="483840" cy="1521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0" name="Freeform 47"/>
                <p:cNvSpPr/>
                <p:nvPr/>
              </p:nvSpPr>
              <p:spPr>
                <a:xfrm>
                  <a:off x="40312080" y="9902520"/>
                  <a:ext cx="3942360" cy="97596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1" name="Rectangle 52"/>
                <p:cNvSpPr/>
                <p:nvPr/>
              </p:nvSpPr>
              <p:spPr>
                <a:xfrm>
                  <a:off x="45187920" y="11050560"/>
                  <a:ext cx="34560" cy="70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2" name="Rectangle 53"/>
                <p:cNvSpPr/>
                <p:nvPr/>
              </p:nvSpPr>
              <p:spPr>
                <a:xfrm>
                  <a:off x="46173960" y="11050560"/>
                  <a:ext cx="34200" cy="70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3" name="Rectangle 54"/>
                <p:cNvSpPr/>
                <p:nvPr/>
              </p:nvSpPr>
              <p:spPr>
                <a:xfrm>
                  <a:off x="47159640" y="11050560"/>
                  <a:ext cx="36360" cy="70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4" name="Rectangle 55"/>
                <p:cNvSpPr/>
                <p:nvPr/>
              </p:nvSpPr>
              <p:spPr>
                <a:xfrm>
                  <a:off x="48145320" y="11050560"/>
                  <a:ext cx="36360" cy="70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5" name="Rectangle 56"/>
                <p:cNvSpPr/>
                <p:nvPr/>
              </p:nvSpPr>
              <p:spPr>
                <a:xfrm>
                  <a:off x="45184320" y="11136240"/>
                  <a:ext cx="982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6" name="Rectangle 57"/>
                <p:cNvSpPr/>
                <p:nvPr/>
              </p:nvSpPr>
              <p:spPr>
                <a:xfrm>
                  <a:off x="46169640" y="11136240"/>
                  <a:ext cx="982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7" name="Rectangle 58"/>
                <p:cNvSpPr/>
                <p:nvPr/>
              </p:nvSpPr>
              <p:spPr>
                <a:xfrm>
                  <a:off x="47155320" y="11136240"/>
                  <a:ext cx="982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25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8" name="Rectangle 59"/>
                <p:cNvSpPr/>
                <p:nvPr/>
              </p:nvSpPr>
              <p:spPr>
                <a:xfrm>
                  <a:off x="48141360" y="11136240"/>
                  <a:ext cx="982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9" name="Rectangle 60"/>
                <p:cNvSpPr/>
                <p:nvPr/>
              </p:nvSpPr>
              <p:spPr>
                <a:xfrm>
                  <a:off x="45918000" y="11364120"/>
                  <a:ext cx="14072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total days to full feed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0" name="Rectangle 63"/>
                <p:cNvSpPr/>
                <p:nvPr/>
              </p:nvSpPr>
              <p:spPr>
                <a:xfrm>
                  <a:off x="44523720" y="10275840"/>
                  <a:ext cx="90000" cy="27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1" name="Rectangle 64"/>
                <p:cNvSpPr/>
                <p:nvPr/>
              </p:nvSpPr>
              <p:spPr>
                <a:xfrm>
                  <a:off x="44523720" y="9513720"/>
                  <a:ext cx="9000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2" name="Rectangle 65"/>
                <p:cNvSpPr/>
                <p:nvPr/>
              </p:nvSpPr>
              <p:spPr>
                <a:xfrm>
                  <a:off x="44523720" y="8754480"/>
                  <a:ext cx="90000" cy="27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3" name="Rectangle 66"/>
                <p:cNvSpPr/>
                <p:nvPr/>
              </p:nvSpPr>
              <p:spPr>
                <a:xfrm>
                  <a:off x="44523720" y="7994520"/>
                  <a:ext cx="90000" cy="27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4" name="Rectangle 67"/>
                <p:cNvSpPr/>
                <p:nvPr/>
              </p:nvSpPr>
              <p:spPr>
                <a:xfrm>
                  <a:off x="44613720" y="9528840"/>
                  <a:ext cx="483840" cy="1521360"/>
                </a:xfrm>
                <a:prstGeom prst="rect">
                  <a:avLst/>
                </a:prstGeom>
                <a:solidFill>
                  <a:srgbClr val="7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5" name="Rectangle 68"/>
                <p:cNvSpPr/>
                <p:nvPr/>
              </p:nvSpPr>
              <p:spPr>
                <a:xfrm>
                  <a:off x="44613720" y="9528840"/>
                  <a:ext cx="483840" cy="1521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6" name="Rectangle 69"/>
                <p:cNvSpPr/>
                <p:nvPr/>
              </p:nvSpPr>
              <p:spPr>
                <a:xfrm>
                  <a:off x="45097920" y="8007480"/>
                  <a:ext cx="501480" cy="3042720"/>
                </a:xfrm>
                <a:prstGeom prst="rect">
                  <a:avLst/>
                </a:prstGeom>
                <a:solidFill>
                  <a:srgbClr val="7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7" name="Rectangle 70"/>
                <p:cNvSpPr/>
                <p:nvPr/>
              </p:nvSpPr>
              <p:spPr>
                <a:xfrm>
                  <a:off x="45097920" y="8007480"/>
                  <a:ext cx="501480" cy="30427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8" name="Rectangle 71"/>
                <p:cNvSpPr/>
                <p:nvPr/>
              </p:nvSpPr>
              <p:spPr>
                <a:xfrm>
                  <a:off x="46083600" y="8769240"/>
                  <a:ext cx="501480" cy="2280960"/>
                </a:xfrm>
                <a:prstGeom prst="rect">
                  <a:avLst/>
                </a:prstGeom>
                <a:solidFill>
                  <a:srgbClr val="7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9" name="Rectangle 72"/>
                <p:cNvSpPr/>
                <p:nvPr/>
              </p:nvSpPr>
              <p:spPr>
                <a:xfrm>
                  <a:off x="46083600" y="8769240"/>
                  <a:ext cx="501480" cy="22809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80" name="Rectangle 73"/>
                <p:cNvSpPr/>
                <p:nvPr/>
              </p:nvSpPr>
              <p:spPr>
                <a:xfrm>
                  <a:off x="46585080" y="10288800"/>
                  <a:ext cx="503640" cy="761400"/>
                </a:xfrm>
                <a:prstGeom prst="rect">
                  <a:avLst/>
                </a:prstGeom>
                <a:solidFill>
                  <a:srgbClr val="7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81" name="Rectangle 74"/>
                <p:cNvSpPr/>
                <p:nvPr/>
              </p:nvSpPr>
              <p:spPr>
                <a:xfrm>
                  <a:off x="46585080" y="10288800"/>
                  <a:ext cx="503640" cy="7614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82" name="Freeform 75"/>
                <p:cNvSpPr/>
                <p:nvPr/>
              </p:nvSpPr>
              <p:spPr>
                <a:xfrm>
                  <a:off x="44613720" y="9041760"/>
                  <a:ext cx="3944520" cy="200844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283" name="Line 10"/>
              <p:cNvSpPr/>
              <p:nvPr/>
            </p:nvSpPr>
            <p:spPr>
              <a:xfrm flipV="1">
                <a:off x="42519600" y="9876600"/>
                <a:ext cx="0" cy="1971360"/>
              </a:xfrm>
              <a:prstGeom prst="line">
                <a:avLst/>
              </a:prstGeom>
              <a:ln w="28440">
                <a:solidFill>
                  <a:srgbClr val="0034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284" name="Rectangle 403"/>
          <p:cNvSpPr/>
          <p:nvPr/>
        </p:nvSpPr>
        <p:spPr>
          <a:xfrm>
            <a:off x="8629560" y="34902720"/>
            <a:ext cx="182880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t">
            <a:sp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85" name="Group 424"/>
          <p:cNvGrpSpPr/>
          <p:nvPr/>
        </p:nvGrpSpPr>
        <p:grpSpPr>
          <a:xfrm>
            <a:off x="39179520" y="21607560"/>
            <a:ext cx="9771120" cy="5289120"/>
            <a:chOff x="39179520" y="21607560"/>
            <a:chExt cx="9771120" cy="5289120"/>
          </a:xfrm>
        </p:grpSpPr>
        <p:grpSp>
          <p:nvGrpSpPr>
            <p:cNvPr id="286" name="Group 421"/>
            <p:cNvGrpSpPr/>
            <p:nvPr/>
          </p:nvGrpSpPr>
          <p:grpSpPr>
            <a:xfrm>
              <a:off x="39179520" y="21607560"/>
              <a:ext cx="9771120" cy="5289120"/>
              <a:chOff x="39179520" y="21607560"/>
              <a:chExt cx="9771120" cy="5289120"/>
            </a:xfrm>
          </p:grpSpPr>
          <p:pic>
            <p:nvPicPr>
              <p:cNvPr id="287" name="Object 3" descr=""/>
              <p:cNvPicPr/>
              <p:nvPr/>
            </p:nvPicPr>
            <p:blipFill>
              <a:blip r:embed="rId2"/>
              <a:stretch/>
            </p:blipFill>
            <p:spPr>
              <a:xfrm>
                <a:off x="41519520" y="21607560"/>
                <a:ext cx="7431120" cy="4817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88" name="Group 415"/>
              <p:cNvGrpSpPr/>
              <p:nvPr/>
            </p:nvGrpSpPr>
            <p:grpSpPr>
              <a:xfrm>
                <a:off x="39179520" y="21719160"/>
                <a:ext cx="8683920" cy="5177520"/>
                <a:chOff x="39179520" y="21719160"/>
                <a:chExt cx="8683920" cy="5177520"/>
              </a:xfrm>
            </p:grpSpPr>
            <p:grpSp>
              <p:nvGrpSpPr>
                <p:cNvPr id="289" name="Group 11"/>
                <p:cNvGrpSpPr/>
                <p:nvPr/>
              </p:nvGrpSpPr>
              <p:grpSpPr>
                <a:xfrm>
                  <a:off x="39179520" y="22732560"/>
                  <a:ext cx="8683920" cy="4164120"/>
                  <a:chOff x="39179520" y="22732560"/>
                  <a:chExt cx="8683920" cy="4164120"/>
                </a:xfrm>
              </p:grpSpPr>
              <p:sp>
                <p:nvSpPr>
                  <p:cNvPr id="290" name="Text Box 7"/>
                  <p:cNvSpPr/>
                  <p:nvPr/>
                </p:nvSpPr>
                <p:spPr>
                  <a:xfrm>
                    <a:off x="39179520" y="22732560"/>
                    <a:ext cx="329544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12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xperimental</a:t>
                    </a:r>
                    <a:endParaRPr b="0" lang="en-US" sz="3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91" name="Text Box 10"/>
                  <p:cNvSpPr/>
                  <p:nvPr/>
                </p:nvSpPr>
                <p:spPr>
                  <a:xfrm>
                    <a:off x="40095720" y="24637680"/>
                    <a:ext cx="18648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12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400" spc="-1" strike="noStrike">
                        <a:solidFill>
                          <a:srgbClr val="000000"/>
                        </a:solidFill>
                        <a:latin typeface="Arial Narrow"/>
                      </a:rPr>
                      <a:t>Control</a:t>
                    </a:r>
                    <a:endParaRPr b="0" lang="en-US" sz="3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92" name="Text Box 11"/>
                  <p:cNvSpPr/>
                  <p:nvPr/>
                </p:nvSpPr>
                <p:spPr>
                  <a:xfrm>
                    <a:off x="42153840" y="26436960"/>
                    <a:ext cx="5709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 Narrow"/>
                      </a:rPr>
                      <a:t>Days from 29 weeks PMA to Discharg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293" name="Text Box 15"/>
                <p:cNvSpPr/>
                <p:nvPr/>
              </p:nvSpPr>
              <p:spPr>
                <a:xfrm>
                  <a:off x="43845480" y="21719160"/>
                  <a:ext cx="3838680" cy="58140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700000"/>
                      </a:solidFill>
                      <a:latin typeface="Arial Narrow"/>
                    </a:rPr>
                    <a:t>Difference of 2.6 days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294" name="TextBox 422"/>
            <p:cNvSpPr/>
            <p:nvPr/>
          </p:nvSpPr>
          <p:spPr>
            <a:xfrm>
              <a:off x="43122240" y="22710240"/>
              <a:ext cx="88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41.8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5" name="TextBox 423"/>
            <p:cNvSpPr/>
            <p:nvPr/>
          </p:nvSpPr>
          <p:spPr>
            <a:xfrm>
              <a:off x="46113120" y="24604200"/>
              <a:ext cx="11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44.4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96" name="Group 332"/>
          <p:cNvGrpSpPr/>
          <p:nvPr/>
        </p:nvGrpSpPr>
        <p:grpSpPr>
          <a:xfrm>
            <a:off x="39084120" y="15038280"/>
            <a:ext cx="6248520" cy="3324240"/>
            <a:chOff x="39084120" y="15038280"/>
            <a:chExt cx="6248520" cy="3324240"/>
          </a:xfrm>
        </p:grpSpPr>
        <p:grpSp>
          <p:nvGrpSpPr>
            <p:cNvPr id="297" name="Group 11"/>
            <p:cNvGrpSpPr/>
            <p:nvPr/>
          </p:nvGrpSpPr>
          <p:grpSpPr>
            <a:xfrm>
              <a:off x="39084120" y="15038280"/>
              <a:ext cx="5980320" cy="3324240"/>
              <a:chOff x="39084120" y="15038280"/>
              <a:chExt cx="5980320" cy="3324240"/>
            </a:xfrm>
          </p:grpSpPr>
          <p:sp>
            <p:nvSpPr>
              <p:cNvPr id="298" name="AutoShape 10"/>
              <p:cNvSpPr/>
              <p:nvPr/>
            </p:nvSpPr>
            <p:spPr>
              <a:xfrm>
                <a:off x="39084120" y="15038280"/>
                <a:ext cx="5980320" cy="332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9" name="Rectangle 12"/>
              <p:cNvSpPr/>
              <p:nvPr/>
            </p:nvSpPr>
            <p:spPr>
              <a:xfrm>
                <a:off x="39622320" y="15410160"/>
                <a:ext cx="4775040" cy="244764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0" name="Line 13"/>
              <p:cNvSpPr/>
              <p:nvPr/>
            </p:nvSpPr>
            <p:spPr>
              <a:xfrm>
                <a:off x="39622320" y="17552520"/>
                <a:ext cx="47750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1" name="Line 14"/>
              <p:cNvSpPr/>
              <p:nvPr/>
            </p:nvSpPr>
            <p:spPr>
              <a:xfrm>
                <a:off x="39622320" y="17245800"/>
                <a:ext cx="47750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2" name="Line 15"/>
              <p:cNvSpPr/>
              <p:nvPr/>
            </p:nvSpPr>
            <p:spPr>
              <a:xfrm>
                <a:off x="39622320" y="16939440"/>
                <a:ext cx="47750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3" name="Line 16"/>
              <p:cNvSpPr/>
              <p:nvPr/>
            </p:nvSpPr>
            <p:spPr>
              <a:xfrm>
                <a:off x="39622320" y="16634160"/>
                <a:ext cx="47750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4" name="Line 17"/>
              <p:cNvSpPr/>
              <p:nvPr/>
            </p:nvSpPr>
            <p:spPr>
              <a:xfrm>
                <a:off x="39622320" y="16327440"/>
                <a:ext cx="47750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5" name="Line 18"/>
              <p:cNvSpPr/>
              <p:nvPr/>
            </p:nvSpPr>
            <p:spPr>
              <a:xfrm>
                <a:off x="39622320" y="16022160"/>
                <a:ext cx="47750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39622320" y="15715440"/>
                <a:ext cx="47750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7" name="Line 20"/>
              <p:cNvSpPr/>
              <p:nvPr/>
            </p:nvSpPr>
            <p:spPr>
              <a:xfrm>
                <a:off x="39622320" y="15410160"/>
                <a:ext cx="47750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8" name="Rectangle 21"/>
              <p:cNvSpPr/>
              <p:nvPr/>
            </p:nvSpPr>
            <p:spPr>
              <a:xfrm>
                <a:off x="39622320" y="15410160"/>
                <a:ext cx="4775040" cy="2447640"/>
              </a:xfrm>
              <a:prstGeom prst="rect">
                <a:avLst/>
              </a:pr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9" name="Line 22"/>
              <p:cNvSpPr/>
              <p:nvPr/>
            </p:nvSpPr>
            <p:spPr>
              <a:xfrm>
                <a:off x="39622320" y="15410160"/>
                <a:ext cx="1080" cy="244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0" name="Line 23"/>
              <p:cNvSpPr/>
              <p:nvPr/>
            </p:nvSpPr>
            <p:spPr>
              <a:xfrm>
                <a:off x="39594960" y="17857800"/>
                <a:ext cx="27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1" name="Line 24"/>
              <p:cNvSpPr/>
              <p:nvPr/>
            </p:nvSpPr>
            <p:spPr>
              <a:xfrm>
                <a:off x="39594960" y="17552520"/>
                <a:ext cx="27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2" name="Line 25"/>
              <p:cNvSpPr/>
              <p:nvPr/>
            </p:nvSpPr>
            <p:spPr>
              <a:xfrm>
                <a:off x="39594960" y="17245800"/>
                <a:ext cx="27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3" name="Line 26"/>
              <p:cNvSpPr/>
              <p:nvPr/>
            </p:nvSpPr>
            <p:spPr>
              <a:xfrm>
                <a:off x="39594960" y="16939440"/>
                <a:ext cx="27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4" name="Line 27"/>
              <p:cNvSpPr/>
              <p:nvPr/>
            </p:nvSpPr>
            <p:spPr>
              <a:xfrm>
                <a:off x="39594960" y="16634160"/>
                <a:ext cx="27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5" name="Line 28"/>
              <p:cNvSpPr/>
              <p:nvPr/>
            </p:nvSpPr>
            <p:spPr>
              <a:xfrm>
                <a:off x="39594960" y="16327440"/>
                <a:ext cx="27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>
                <a:off x="39594960" y="16022160"/>
                <a:ext cx="27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7" name="Line 30"/>
              <p:cNvSpPr/>
              <p:nvPr/>
            </p:nvSpPr>
            <p:spPr>
              <a:xfrm>
                <a:off x="39594960" y="15715440"/>
                <a:ext cx="27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8" name="Line 31"/>
              <p:cNvSpPr/>
              <p:nvPr/>
            </p:nvSpPr>
            <p:spPr>
              <a:xfrm>
                <a:off x="39594960" y="15410160"/>
                <a:ext cx="27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9" name="Line 32"/>
              <p:cNvSpPr/>
              <p:nvPr/>
            </p:nvSpPr>
            <p:spPr>
              <a:xfrm>
                <a:off x="39622320" y="17857800"/>
                <a:ext cx="47750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0" name="Line 33"/>
              <p:cNvSpPr/>
              <p:nvPr/>
            </p:nvSpPr>
            <p:spPr>
              <a:xfrm flipV="1">
                <a:off x="39622320" y="1785744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1" name="Line 34"/>
              <p:cNvSpPr/>
              <p:nvPr/>
            </p:nvSpPr>
            <p:spPr>
              <a:xfrm flipV="1">
                <a:off x="40417200" y="17857440"/>
                <a:ext cx="144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2" name="Line 35"/>
              <p:cNvSpPr/>
              <p:nvPr/>
            </p:nvSpPr>
            <p:spPr>
              <a:xfrm flipV="1">
                <a:off x="41213520" y="17857440"/>
                <a:ext cx="144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3" name="Line 36"/>
              <p:cNvSpPr/>
              <p:nvPr/>
            </p:nvSpPr>
            <p:spPr>
              <a:xfrm flipV="1">
                <a:off x="42009840" y="17857440"/>
                <a:ext cx="144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4" name="Line 37"/>
              <p:cNvSpPr/>
              <p:nvPr/>
            </p:nvSpPr>
            <p:spPr>
              <a:xfrm flipV="1">
                <a:off x="42805080" y="1785744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5" name="Line 38"/>
              <p:cNvSpPr/>
              <p:nvPr/>
            </p:nvSpPr>
            <p:spPr>
              <a:xfrm flipV="1">
                <a:off x="43601400" y="1785744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6" name="Line 39"/>
              <p:cNvSpPr/>
              <p:nvPr/>
            </p:nvSpPr>
            <p:spPr>
              <a:xfrm flipV="1">
                <a:off x="44397720" y="1785744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7" name="Freeform 40"/>
              <p:cNvSpPr/>
              <p:nvPr/>
            </p:nvSpPr>
            <p:spPr>
              <a:xfrm>
                <a:off x="40019040" y="15614640"/>
                <a:ext cx="3980160" cy="1529280"/>
              </a:xfrm>
              <a:prstGeom prst="pie">
                <a:avLst/>
              </a:prstGeom>
              <a:noFill/>
              <a:ln w="0">
                <a:solidFill>
                  <a:srgbClr val="0034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8" name="Freeform 41"/>
              <p:cNvSpPr/>
              <p:nvPr/>
            </p:nvSpPr>
            <p:spPr>
              <a:xfrm>
                <a:off x="40019040" y="16235640"/>
                <a:ext cx="3980160" cy="1316520"/>
              </a:xfrm>
              <a:prstGeom prst="pie">
                <a:avLst/>
              </a:prstGeom>
              <a:noFill/>
              <a:ln w="0">
                <a:solidFill>
                  <a:srgbClr val="7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9" name="Freeform 42"/>
              <p:cNvSpPr/>
              <p:nvPr/>
            </p:nvSpPr>
            <p:spPr>
              <a:xfrm>
                <a:off x="39997080" y="15596640"/>
                <a:ext cx="45000" cy="36000"/>
              </a:xfrm>
              <a:prstGeom prst="pie">
                <a:avLst/>
              </a:prstGeom>
              <a:solidFill>
                <a:srgbClr val="003466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0" name="Freeform 43"/>
              <p:cNvSpPr/>
              <p:nvPr/>
            </p:nvSpPr>
            <p:spPr>
              <a:xfrm>
                <a:off x="40793400" y="16649640"/>
                <a:ext cx="45000" cy="36000"/>
              </a:xfrm>
              <a:prstGeom prst="pie">
                <a:avLst/>
              </a:prstGeom>
              <a:solidFill>
                <a:srgbClr val="003466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1" name="Freeform 44"/>
              <p:cNvSpPr/>
              <p:nvPr/>
            </p:nvSpPr>
            <p:spPr>
              <a:xfrm>
                <a:off x="41589720" y="16750440"/>
                <a:ext cx="43560" cy="36000"/>
              </a:xfrm>
              <a:prstGeom prst="pie">
                <a:avLst/>
              </a:prstGeom>
              <a:solidFill>
                <a:srgbClr val="003466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2" name="Freeform 45"/>
              <p:cNvSpPr/>
              <p:nvPr/>
            </p:nvSpPr>
            <p:spPr>
              <a:xfrm>
                <a:off x="42384960" y="16820640"/>
                <a:ext cx="44640" cy="36000"/>
              </a:xfrm>
              <a:prstGeom prst="pie">
                <a:avLst/>
              </a:prstGeom>
              <a:solidFill>
                <a:srgbClr val="003466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3" name="Freeform 46"/>
              <p:cNvSpPr/>
              <p:nvPr/>
            </p:nvSpPr>
            <p:spPr>
              <a:xfrm>
                <a:off x="43181280" y="16989120"/>
                <a:ext cx="44640" cy="34920"/>
              </a:xfrm>
              <a:prstGeom prst="pie">
                <a:avLst/>
              </a:prstGeom>
              <a:solidFill>
                <a:srgbClr val="003466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4" name="Freeform 47"/>
              <p:cNvSpPr/>
              <p:nvPr/>
            </p:nvSpPr>
            <p:spPr>
              <a:xfrm>
                <a:off x="43977600" y="17125920"/>
                <a:ext cx="43560" cy="36000"/>
              </a:xfrm>
              <a:prstGeom prst="pie">
                <a:avLst/>
              </a:prstGeom>
              <a:solidFill>
                <a:srgbClr val="003466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5" name="Rectangle 48"/>
              <p:cNvSpPr/>
              <p:nvPr/>
            </p:nvSpPr>
            <p:spPr>
              <a:xfrm>
                <a:off x="39997080" y="16218720"/>
                <a:ext cx="43560" cy="34920"/>
              </a:xfrm>
              <a:prstGeom prst="rect">
                <a:avLst/>
              </a:pr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6" name="Rectangle 49"/>
              <p:cNvSpPr/>
              <p:nvPr/>
            </p:nvSpPr>
            <p:spPr>
              <a:xfrm>
                <a:off x="40793400" y="16615800"/>
                <a:ext cx="43560" cy="34920"/>
              </a:xfrm>
              <a:prstGeom prst="rect">
                <a:avLst/>
              </a:pr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7" name="Rectangle 50"/>
              <p:cNvSpPr/>
              <p:nvPr/>
            </p:nvSpPr>
            <p:spPr>
              <a:xfrm>
                <a:off x="41589720" y="16799040"/>
                <a:ext cx="42480" cy="34920"/>
              </a:xfrm>
              <a:prstGeom prst="rect">
                <a:avLst/>
              </a:pr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8" name="Rectangle 51"/>
              <p:cNvSpPr/>
              <p:nvPr/>
            </p:nvSpPr>
            <p:spPr>
              <a:xfrm>
                <a:off x="42384960" y="17166960"/>
                <a:ext cx="43560" cy="34560"/>
              </a:xfrm>
              <a:prstGeom prst="rect">
                <a:avLst/>
              </a:pr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9" name="Rectangle 52"/>
              <p:cNvSpPr/>
              <p:nvPr/>
            </p:nvSpPr>
            <p:spPr>
              <a:xfrm>
                <a:off x="43181280" y="17227800"/>
                <a:ext cx="43560" cy="34560"/>
              </a:xfrm>
              <a:prstGeom prst="rect">
                <a:avLst/>
              </a:pr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0" name="Rectangle 53"/>
              <p:cNvSpPr/>
              <p:nvPr/>
            </p:nvSpPr>
            <p:spPr>
              <a:xfrm>
                <a:off x="43977600" y="17534520"/>
                <a:ext cx="42120" cy="34560"/>
              </a:xfrm>
              <a:prstGeom prst="rect">
                <a:avLst/>
              </a:pr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1" name="Rectangle 54"/>
              <p:cNvSpPr/>
              <p:nvPr/>
            </p:nvSpPr>
            <p:spPr>
              <a:xfrm>
                <a:off x="41233320" y="15188400"/>
                <a:ext cx="17715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eeding Progression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2" name="Rectangle 55"/>
              <p:cNvSpPr/>
              <p:nvPr/>
            </p:nvSpPr>
            <p:spPr>
              <a:xfrm>
                <a:off x="39523320" y="17816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3" name="Rectangle 56"/>
              <p:cNvSpPr/>
              <p:nvPr/>
            </p:nvSpPr>
            <p:spPr>
              <a:xfrm>
                <a:off x="39523320" y="17509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4" name="Rectangle 57"/>
              <p:cNvSpPr/>
              <p:nvPr/>
            </p:nvSpPr>
            <p:spPr>
              <a:xfrm>
                <a:off x="39523320" y="17202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5" name="Rectangle 58"/>
              <p:cNvSpPr/>
              <p:nvPr/>
            </p:nvSpPr>
            <p:spPr>
              <a:xfrm>
                <a:off x="39523320" y="1689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6" name="Rectangle 59"/>
              <p:cNvSpPr/>
              <p:nvPr/>
            </p:nvSpPr>
            <p:spPr>
              <a:xfrm>
                <a:off x="39523320" y="16593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7" name="Rectangle 60"/>
              <p:cNvSpPr/>
              <p:nvPr/>
            </p:nvSpPr>
            <p:spPr>
              <a:xfrm>
                <a:off x="39523320" y="16287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8" name="Rectangle 61"/>
              <p:cNvSpPr/>
              <p:nvPr/>
            </p:nvSpPr>
            <p:spPr>
              <a:xfrm>
                <a:off x="39523320" y="15981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9" name="Rectangle 62"/>
              <p:cNvSpPr/>
              <p:nvPr/>
            </p:nvSpPr>
            <p:spPr>
              <a:xfrm>
                <a:off x="39523320" y="15674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0" name="Rectangle 63"/>
              <p:cNvSpPr/>
              <p:nvPr/>
            </p:nvSpPr>
            <p:spPr>
              <a:xfrm>
                <a:off x="39523320" y="15369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1" name="Rectangle 64"/>
              <p:cNvSpPr/>
              <p:nvPr/>
            </p:nvSpPr>
            <p:spPr>
              <a:xfrm>
                <a:off x="40011120" y="1791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2" name="Rectangle 65"/>
              <p:cNvSpPr/>
              <p:nvPr/>
            </p:nvSpPr>
            <p:spPr>
              <a:xfrm>
                <a:off x="40807800" y="1791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3" name="Rectangle 66"/>
              <p:cNvSpPr/>
              <p:nvPr/>
            </p:nvSpPr>
            <p:spPr>
              <a:xfrm>
                <a:off x="41603760" y="1791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4" name="Rectangle 67"/>
              <p:cNvSpPr/>
              <p:nvPr/>
            </p:nvSpPr>
            <p:spPr>
              <a:xfrm>
                <a:off x="42398640" y="1791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5" name="Rectangle 68"/>
              <p:cNvSpPr/>
              <p:nvPr/>
            </p:nvSpPr>
            <p:spPr>
              <a:xfrm>
                <a:off x="43195680" y="1791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6" name="Rectangle 69"/>
              <p:cNvSpPr/>
              <p:nvPr/>
            </p:nvSpPr>
            <p:spPr>
              <a:xfrm>
                <a:off x="43990920" y="1791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7" name="Rectangle 70"/>
              <p:cNvSpPr/>
              <p:nvPr/>
            </p:nvSpPr>
            <p:spPr>
              <a:xfrm>
                <a:off x="41378400" y="18016200"/>
                <a:ext cx="15048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 Feeding Phases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8" name="Rectangle 71"/>
              <p:cNvSpPr/>
              <p:nvPr/>
            </p:nvSpPr>
            <p:spPr>
              <a:xfrm rot="16200000">
                <a:off x="38687400" y="16416000"/>
                <a:ext cx="1366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umber of Days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9" name="Rectangle 72"/>
              <p:cNvSpPr/>
              <p:nvPr/>
            </p:nvSpPr>
            <p:spPr>
              <a:xfrm>
                <a:off x="44470800" y="16515360"/>
                <a:ext cx="554760" cy="210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60" name="Line 73"/>
              <p:cNvSpPr/>
              <p:nvPr/>
            </p:nvSpPr>
            <p:spPr>
              <a:xfrm>
                <a:off x="44500320" y="16569360"/>
                <a:ext cx="175680" cy="108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61" name="Freeform 74"/>
              <p:cNvSpPr/>
              <p:nvPr/>
            </p:nvSpPr>
            <p:spPr>
              <a:xfrm>
                <a:off x="44565840" y="16551360"/>
                <a:ext cx="43560" cy="36000"/>
              </a:xfrm>
              <a:prstGeom prst="pie">
                <a:avLst/>
              </a:pr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62" name="Line 76"/>
              <p:cNvSpPr/>
              <p:nvPr/>
            </p:nvSpPr>
            <p:spPr>
              <a:xfrm>
                <a:off x="44500320" y="16674480"/>
                <a:ext cx="175680" cy="1080"/>
              </a:xfrm>
              <a:prstGeom prst="line">
                <a:avLst/>
              </a:prstGeom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63" name="Rectangle 77"/>
              <p:cNvSpPr/>
              <p:nvPr/>
            </p:nvSpPr>
            <p:spPr>
              <a:xfrm>
                <a:off x="44565840" y="16656840"/>
                <a:ext cx="42120" cy="3492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364" name="Text Box 5"/>
            <p:cNvSpPr/>
            <p:nvPr/>
          </p:nvSpPr>
          <p:spPr>
            <a:xfrm>
              <a:off x="44465760" y="16437240"/>
              <a:ext cx="866880" cy="41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 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8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Experimental</a:t>
              </a:r>
              <a:endParaRPr b="0" lang="en-US" sz="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cxnSp>
          <p:nvCxnSpPr>
            <p:cNvPr id="365" name="Straight Arrow Connector 335"/>
            <p:cNvCxnSpPr/>
            <p:nvPr/>
          </p:nvCxnSpPr>
          <p:spPr>
            <a:xfrm>
              <a:off x="44526960" y="16545600"/>
              <a:ext cx="247320" cy="1800"/>
            </a:xfrm>
            <a:prstGeom prst="straightConnector1">
              <a:avLst/>
            </a:prstGeom>
            <a:ln w="9360">
              <a:solidFill>
                <a:srgbClr val="003466"/>
              </a:solidFill>
              <a:miter/>
              <a:tailEnd len="med" type="arrow" w="med"/>
            </a:ln>
          </p:spPr>
        </p:cxnSp>
        <p:cxnSp>
          <p:nvCxnSpPr>
            <p:cNvPr id="366" name="Straight Arrow Connector 336"/>
            <p:cNvCxnSpPr/>
            <p:nvPr/>
          </p:nvCxnSpPr>
          <p:spPr>
            <a:xfrm>
              <a:off x="44526960" y="16708680"/>
              <a:ext cx="247320" cy="1800"/>
            </a:xfrm>
            <a:prstGeom prst="straightConnector1">
              <a:avLst/>
            </a:prstGeom>
            <a:ln w="9360">
              <a:solidFill>
                <a:srgbClr val="700000"/>
              </a:solidFill>
              <a:miter/>
              <a:tailEnd len="med" type="arrow" w="med"/>
            </a:ln>
          </p:spPr>
        </p:cxnSp>
      </p:grpSp>
      <p:grpSp>
        <p:nvGrpSpPr>
          <p:cNvPr id="367" name="Group 191"/>
          <p:cNvGrpSpPr/>
          <p:nvPr/>
        </p:nvGrpSpPr>
        <p:grpSpPr>
          <a:xfrm>
            <a:off x="39371760" y="18400680"/>
            <a:ext cx="5284440" cy="1828800"/>
            <a:chOff x="39371760" y="18400680"/>
            <a:chExt cx="5284440" cy="1828800"/>
          </a:xfrm>
        </p:grpSpPr>
        <p:sp>
          <p:nvSpPr>
            <p:cNvPr id="368" name="Rectangle 3"/>
            <p:cNvSpPr/>
            <p:nvPr/>
          </p:nvSpPr>
          <p:spPr>
            <a:xfrm>
              <a:off x="39371760" y="18400680"/>
              <a:ext cx="5284440" cy="304560"/>
            </a:xfrm>
            <a:prstGeom prst="rect">
              <a:avLst/>
            </a:prstGeom>
            <a:solidFill>
              <a:srgbClr val="aaba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Day/Phase 1      1 Nipple per day             When consumes &gt;50% for 48 hours, progress</a:t>
              </a: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9" name="Rectangle 10"/>
            <p:cNvSpPr/>
            <p:nvPr/>
          </p:nvSpPr>
          <p:spPr>
            <a:xfrm>
              <a:off x="39371760" y="18705240"/>
              <a:ext cx="5284440" cy="304560"/>
            </a:xfrm>
            <a:prstGeom prst="rect">
              <a:avLst/>
            </a:prstGeom>
            <a:solidFill>
              <a:srgbClr val="aaba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Phase 2              Nipple BID                      When consumes &gt;50% for 48 hours, progress</a:t>
              </a: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0" name="Rectangle 11"/>
            <p:cNvSpPr/>
            <p:nvPr/>
          </p:nvSpPr>
          <p:spPr>
            <a:xfrm>
              <a:off x="39371760" y="19010160"/>
              <a:ext cx="5284440" cy="304560"/>
            </a:xfrm>
            <a:prstGeom prst="rect">
              <a:avLst/>
            </a:prstGeom>
            <a:solidFill>
              <a:srgbClr val="aaba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Phase 3              Nipple TID                      When consumes &gt;50% for 48 hours, progress</a:t>
              </a: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1" name="Rectangle 12"/>
            <p:cNvSpPr/>
            <p:nvPr/>
          </p:nvSpPr>
          <p:spPr>
            <a:xfrm>
              <a:off x="39371760" y="19315080"/>
              <a:ext cx="5284440" cy="304560"/>
            </a:xfrm>
            <a:prstGeom prst="rect">
              <a:avLst/>
            </a:prstGeom>
            <a:solidFill>
              <a:srgbClr val="aaba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Phase 4              Nipple QID                     When consumes &gt;50% for 48 hours, progress </a:t>
              </a: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39371760" y="19620000"/>
              <a:ext cx="5284440" cy="304560"/>
            </a:xfrm>
            <a:prstGeom prst="rect">
              <a:avLst/>
            </a:prstGeom>
            <a:solidFill>
              <a:srgbClr val="aaba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Phase 5              Nipple 6 per day             When consumes &gt;50% for 48 hours, progress</a:t>
              </a: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39371760" y="19924920"/>
              <a:ext cx="5284440" cy="304560"/>
            </a:xfrm>
            <a:prstGeom prst="rect">
              <a:avLst/>
            </a:prstGeom>
            <a:solidFill>
              <a:srgbClr val="aaba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Phase 6              Nipple 8 per day (all)      When consumes &gt;50% for 48 hours, progress</a:t>
              </a: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74" name="TextBox 253"/>
          <p:cNvSpPr/>
          <p:nvPr/>
        </p:nvSpPr>
        <p:spPr>
          <a:xfrm>
            <a:off x="44678520" y="15347880"/>
            <a:ext cx="516744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5800" indent="-228600">
              <a:lnSpc>
                <a:spcPct val="9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Phase 1 was clinically most relevant, as the control group took 2 additional days to complete phase 1 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ontrol groups also took a mean of 1 day longer to complete phases 4 &amp; 6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2 control infants took &gt;5 days to progress out of phase 6, while all experimental infants took the minimum 48 hours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TextBox 254"/>
          <p:cNvSpPr/>
          <p:nvPr/>
        </p:nvSpPr>
        <p:spPr>
          <a:xfrm>
            <a:off x="26495280" y="13020840"/>
            <a:ext cx="1090944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Intervention began the day the infant turned 29 week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Allowed a minimum of 9 hours and maximum of 36 hours between interventions (24 hours ideal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linical stability and eligibility rechecked prior to every intervention, and monitored throughout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Any adverse physiologic or behavioral responses to the intervention were recorded on the study documentation form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After intervention—followed chart for continued eligibility and measurement of feeding progression and length of stay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Text Box 410"/>
          <p:cNvSpPr/>
          <p:nvPr/>
        </p:nvSpPr>
        <p:spPr>
          <a:xfrm>
            <a:off x="25984080" y="1194588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Procedure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77" name="Picture 302" descr="C:\Users\kitty\Pictures\Sucking on finger.JPG"/>
          <p:cNvPicPr/>
          <p:nvPr/>
        </p:nvPicPr>
        <p:blipFill>
          <a:blip r:embed="rId3"/>
          <a:srcRect l="0" t="0" r="0" b="9152"/>
          <a:stretch/>
        </p:blipFill>
        <p:spPr>
          <a:xfrm>
            <a:off x="4781520" y="33804360"/>
            <a:ext cx="3657600" cy="3009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Face w/ Pacifier"/>
          <p:cNvPicPr/>
          <p:nvPr/>
        </p:nvPicPr>
        <p:blipFill>
          <a:blip r:embed="rId4"/>
          <a:srcRect l="0" t="0" r="18766" b="0"/>
          <a:stretch/>
        </p:blipFill>
        <p:spPr>
          <a:xfrm>
            <a:off x="2575080" y="1371600"/>
            <a:ext cx="3840120" cy="2847960"/>
          </a:xfrm>
          <a:prstGeom prst="rect">
            <a:avLst/>
          </a:prstGeom>
          <a:ln w="25560">
            <a:solidFill>
              <a:srgbClr val="0d0d0d"/>
            </a:solidFill>
            <a:miter/>
          </a:ln>
        </p:spPr>
      </p:pic>
      <p:pic>
        <p:nvPicPr>
          <p:cNvPr id="379" name="Picture 89" descr="chloe_resting"/>
          <p:cNvPicPr/>
          <p:nvPr/>
        </p:nvPicPr>
        <p:blipFill>
          <a:blip r:embed="rId5"/>
          <a:stretch/>
        </p:blipFill>
        <p:spPr>
          <a:xfrm>
            <a:off x="18281520" y="22018680"/>
            <a:ext cx="5419800" cy="3612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Done"/>
          <p:cNvPicPr/>
          <p:nvPr/>
        </p:nvPicPr>
        <p:blipFill>
          <a:blip r:embed="rId6"/>
          <a:srcRect l="8485" t="0" r="0" b="0"/>
          <a:stretch/>
        </p:blipFill>
        <p:spPr>
          <a:xfrm>
            <a:off x="44839080" y="1371600"/>
            <a:ext cx="3870360" cy="2847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81" name="TextBox 244"/>
          <p:cNvSpPr/>
          <p:nvPr/>
        </p:nvSpPr>
        <p:spPr>
          <a:xfrm>
            <a:off x="5500800" y="36757080"/>
            <a:ext cx="23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ral Stimul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1:24:28Z</dcterms:created>
  <dc:creator>A. Kotoulas</dc:creator>
  <dc:description>Non-authorized printing of this poster template by any commercial printing service other than PosterPresentations.com is strictly prohibited.
Non-profit educational printing centers are exempt.
To obtain printing authorization call:
1.866.649.3004
© 2007 Canterbury Media Services, Inc</dc:description>
  <cp:keywords>poster presentation poster design poster template</cp:keywords>
  <dc:language>en-US</dc:language>
  <cp:lastModifiedBy>Meg Miner</cp:lastModifiedBy>
  <dcterms:modified xsi:type="dcterms:W3CDTF">2009-04-17T18:55:06Z</dcterms:modified>
  <cp:revision>229</cp:revision>
  <dc:subject>Free PowerPoint poster templates</dc:subject>
  <dc:title>48x36 Poster Template</dc:title>
</cp:coreProperties>
</file>