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51206400" cy="384048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3E7E-735D-4515-B113-5DC7D924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E1BB-47BA-440D-89E2-9D6924E1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809640" y="6578640"/>
            <a:ext cx="1163628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TEMPLATE DESIGN © 2008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13404960" y="6578640"/>
            <a:ext cx="1164564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2598408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Rectangle 35"/>
          <p:cNvSpPr/>
          <p:nvPr/>
        </p:nvSpPr>
        <p:spPr>
          <a:xfrm>
            <a:off x="3859200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09640" y="6578640"/>
            <a:ext cx="1163628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3404960" y="6578640"/>
            <a:ext cx="2422512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859200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9640" y="6578640"/>
            <a:ext cx="4942836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09640" y="6578640"/>
            <a:ext cx="492220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5280120" y="571680"/>
            <a:ext cx="405669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lnSpc>
                <a:spcPct val="100000"/>
              </a:lnSpc>
              <a:spcBef>
                <a:spcPts val="5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000000"/>
                </a:solidFill>
                <a:latin typeface="Arial Black"/>
              </a:rPr>
              <a:t>Effect of Oral Stimulation on Feeding Progression                     in Preterm Infants</a:t>
            </a:r>
            <a:endParaRPr b="0" lang="en-US" sz="93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Brenda S. Lessen, PhD, RN</a:t>
            </a:r>
            <a:endParaRPr b="0" lang="en-US" sz="5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Illinois Wesleyan University, School of Nursing</a:t>
            </a:r>
            <a:endParaRPr b="0" lang="en-US" sz="5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19000" y="111013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eeding Difficulties in Preterm Infant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388"/>
          <p:cNvSpPr/>
          <p:nvPr/>
        </p:nvSpPr>
        <p:spPr>
          <a:xfrm>
            <a:off x="800280" y="2271240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Clinical Problem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405"/>
          <p:cNvSpPr/>
          <p:nvPr/>
        </p:nvSpPr>
        <p:spPr>
          <a:xfrm>
            <a:off x="13404960" y="656424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Purpos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410"/>
          <p:cNvSpPr/>
          <p:nvPr/>
        </p:nvSpPr>
        <p:spPr>
          <a:xfrm>
            <a:off x="13404960" y="1428768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Desig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 Box 417"/>
          <p:cNvSpPr/>
          <p:nvPr/>
        </p:nvSpPr>
        <p:spPr>
          <a:xfrm>
            <a:off x="13804920" y="25617600"/>
            <a:ext cx="196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Sampl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Text Box 437"/>
          <p:cNvSpPr/>
          <p:nvPr/>
        </p:nvSpPr>
        <p:spPr>
          <a:xfrm>
            <a:off x="25984080" y="177134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Control Condi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Text Box 479"/>
          <p:cNvSpPr/>
          <p:nvPr/>
        </p:nvSpPr>
        <p:spPr>
          <a:xfrm>
            <a:off x="38592000" y="2062656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ults- Length of Stay (from 29 weeks PMA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 Box 480"/>
          <p:cNvSpPr/>
          <p:nvPr/>
        </p:nvSpPr>
        <p:spPr>
          <a:xfrm>
            <a:off x="38592000" y="290638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Limitation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Text Box 388"/>
          <p:cNvSpPr/>
          <p:nvPr/>
        </p:nvSpPr>
        <p:spPr>
          <a:xfrm>
            <a:off x="819000" y="18278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Oral Musculatur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 Box 388"/>
          <p:cNvSpPr/>
          <p:nvPr/>
        </p:nvSpPr>
        <p:spPr>
          <a:xfrm>
            <a:off x="819000" y="271321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Oral Stimula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Text Box 388"/>
          <p:cNvSpPr/>
          <p:nvPr/>
        </p:nvSpPr>
        <p:spPr>
          <a:xfrm>
            <a:off x="25984080" y="264920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Beckman Oral Motor Intervention-Premature Infant (BOMI-PI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3" name="Group 114"/>
          <p:cNvGrpSpPr/>
          <p:nvPr/>
        </p:nvGrpSpPr>
        <p:grpSpPr>
          <a:xfrm>
            <a:off x="2216160" y="12244320"/>
            <a:ext cx="8921880" cy="5403960"/>
            <a:chOff x="2216160" y="12244320"/>
            <a:chExt cx="8921880" cy="5403960"/>
          </a:xfrm>
        </p:grpSpPr>
        <p:sp>
          <p:nvSpPr>
            <p:cNvPr id="154" name="AutoShape 3"/>
            <p:cNvSpPr/>
            <p:nvPr/>
          </p:nvSpPr>
          <p:spPr>
            <a:xfrm>
              <a:off x="7814880" y="13836600"/>
              <a:ext cx="3323160" cy="1836000"/>
            </a:xfrm>
            <a:prstGeom prst="flowChartProcess">
              <a:avLst/>
            </a:prstGeom>
            <a:solidFill>
              <a:srgbClr val="00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eding difficulty and 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olonged hospitalization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2216160" y="16576560"/>
              <a:ext cx="4198320" cy="1071720"/>
              <a:chOff x="2216160" y="16576560"/>
              <a:chExt cx="4198320" cy="1071720"/>
            </a:xfrm>
          </p:grpSpPr>
          <p:sp>
            <p:nvSpPr>
              <p:cNvPr id="156" name="Rectangle 6"/>
              <p:cNvSpPr/>
              <p:nvPr/>
            </p:nvSpPr>
            <p:spPr>
              <a:xfrm>
                <a:off x="2216160" y="16576560"/>
                <a:ext cx="4198320" cy="10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"/>
              <p:cNvSpPr/>
              <p:nvPr/>
            </p:nvSpPr>
            <p:spPr>
              <a:xfrm>
                <a:off x="2216160" y="1683252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ability to maintain physiological stability and weight during oral feeding progression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Group 7"/>
            <p:cNvGrpSpPr/>
            <p:nvPr/>
          </p:nvGrpSpPr>
          <p:grpSpPr>
            <a:xfrm>
              <a:off x="2216160" y="14275440"/>
              <a:ext cx="4198320" cy="972360"/>
              <a:chOff x="2216160" y="14275440"/>
              <a:chExt cx="4198320" cy="972360"/>
            </a:xfrm>
          </p:grpSpPr>
          <p:sp>
            <p:nvSpPr>
              <p:cNvPr id="159" name="Rectangle 9"/>
              <p:cNvSpPr/>
              <p:nvPr/>
            </p:nvSpPr>
            <p:spPr>
              <a:xfrm>
                <a:off x="2216160" y="14275440"/>
                <a:ext cx="4198320" cy="97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8"/>
              <p:cNvSpPr/>
              <p:nvPr/>
            </p:nvSpPr>
            <p:spPr>
              <a:xfrm>
                <a:off x="2216160" y="1446696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ack of coordination of 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uck, swallow, &amp; breath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2216160" y="12244320"/>
              <a:ext cx="4198320" cy="910440"/>
              <a:chOff x="2216160" y="12244320"/>
              <a:chExt cx="4198320" cy="910440"/>
            </a:xfrm>
          </p:grpSpPr>
          <p:sp>
            <p:nvSpPr>
              <p:cNvPr id="162" name="Rectangle 12"/>
              <p:cNvSpPr/>
              <p:nvPr/>
            </p:nvSpPr>
            <p:spPr>
              <a:xfrm>
                <a:off x="2216160" y="12244320"/>
                <a:ext cx="4198320" cy="91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11"/>
              <p:cNvSpPr/>
              <p:nvPr/>
            </p:nvSpPr>
            <p:spPr>
              <a:xfrm>
                <a:off x="2216160" y="1242036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unctional and neurologic immaturity of the oral motor structure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4" name="Line 16"/>
            <p:cNvSpPr/>
            <p:nvPr/>
          </p:nvSpPr>
          <p:spPr>
            <a:xfrm>
              <a:off x="6414840" y="12686040"/>
              <a:ext cx="1311840" cy="15912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6414840" y="14719680"/>
              <a:ext cx="1311840" cy="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 flipV="1">
              <a:off x="6414840" y="15514920"/>
              <a:ext cx="1311840" cy="15030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2216160" y="13394520"/>
              <a:ext cx="4198320" cy="788040"/>
              <a:chOff x="2216160" y="13394520"/>
              <a:chExt cx="4198320" cy="788040"/>
            </a:xfrm>
          </p:grpSpPr>
          <p:sp>
            <p:nvSpPr>
              <p:cNvPr id="168" name="Rectangle 22"/>
              <p:cNvSpPr/>
              <p:nvPr/>
            </p:nvSpPr>
            <p:spPr>
              <a:xfrm>
                <a:off x="2216160" y="13394520"/>
                <a:ext cx="4198320" cy="73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>
                <a:off x="2216160" y="1360188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mmature sucking skill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70" name="Group 23"/>
            <p:cNvGrpSpPr/>
            <p:nvPr/>
          </p:nvGrpSpPr>
          <p:grpSpPr>
            <a:xfrm>
              <a:off x="2216160" y="15515280"/>
              <a:ext cx="4198320" cy="795600"/>
              <a:chOff x="2216160" y="15515280"/>
              <a:chExt cx="4198320" cy="795600"/>
            </a:xfrm>
          </p:grpSpPr>
          <p:sp>
            <p:nvSpPr>
              <p:cNvPr id="171" name="Rectangle 25"/>
              <p:cNvSpPr/>
              <p:nvPr/>
            </p:nvSpPr>
            <p:spPr>
              <a:xfrm>
                <a:off x="2216160" y="15515280"/>
                <a:ext cx="4198320" cy="79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>
                <a:off x="2216160" y="15736320"/>
                <a:ext cx="41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xposure to negative oral stimuli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73" name="Line 26"/>
            <p:cNvSpPr/>
            <p:nvPr/>
          </p:nvSpPr>
          <p:spPr>
            <a:xfrm>
              <a:off x="6414840" y="13747320"/>
              <a:ext cx="1311840" cy="7956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V="1">
              <a:off x="6414840" y="15161760"/>
              <a:ext cx="1311840" cy="70704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5" name="Group 136"/>
          <p:cNvGrpSpPr/>
          <p:nvPr/>
        </p:nvGrpSpPr>
        <p:grpSpPr>
          <a:xfrm>
            <a:off x="2685960" y="23868000"/>
            <a:ext cx="8153640" cy="1600200"/>
            <a:chOff x="2685960" y="23868000"/>
            <a:chExt cx="8153640" cy="1600200"/>
          </a:xfrm>
        </p:grpSpPr>
        <p:sp>
          <p:nvSpPr>
            <p:cNvPr id="176" name="AutoShape 3"/>
            <p:cNvSpPr/>
            <p:nvPr/>
          </p:nvSpPr>
          <p:spPr>
            <a:xfrm>
              <a:off x="268596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Difficulty Feeding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520056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44" y="0"/>
                  </a:lnTo>
                  <a:lnTo>
                    <a:pt x="21600" y="10800"/>
                  </a:lnTo>
                  <a:lnTo>
                    <a:pt x="16244" y="21600"/>
                  </a:lnTo>
                  <a:lnTo>
                    <a:pt x="0" y="21600"/>
                  </a:lnTo>
                  <a:lnTo>
                    <a:pt x="535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       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771552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44" y="0"/>
                  </a:lnTo>
                  <a:lnTo>
                    <a:pt x="21600" y="10800"/>
                  </a:lnTo>
                  <a:lnTo>
                    <a:pt x="16244" y="21600"/>
                  </a:lnTo>
                  <a:lnTo>
                    <a:pt x="0" y="21600"/>
                  </a:lnTo>
                  <a:lnTo>
                    <a:pt x="535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TextBox 140"/>
            <p:cNvSpPr/>
            <p:nvPr/>
          </p:nvSpPr>
          <p:spPr>
            <a:xfrm>
              <a:off x="5962680" y="24325200"/>
              <a:ext cx="220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Prolonged Length of Hospital Stay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" name="TextBox 141"/>
            <p:cNvSpPr/>
            <p:nvPr/>
          </p:nvSpPr>
          <p:spPr>
            <a:xfrm>
              <a:off x="8629920" y="24458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Higher Costs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1" name="Text Box 9"/>
          <p:cNvSpPr/>
          <p:nvPr/>
        </p:nvSpPr>
        <p:spPr>
          <a:xfrm>
            <a:off x="853920" y="25746120"/>
            <a:ext cx="11285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4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eed evidence-based interventions to facilitate successful feeding, thus shortening length of stay, &amp; cutting cost of car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Rectangle 143"/>
          <p:cNvSpPr/>
          <p:nvPr/>
        </p:nvSpPr>
        <p:spPr>
          <a:xfrm>
            <a:off x="1425600" y="19324800"/>
            <a:ext cx="113760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infants have poor oral-motor control related to: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eaker muscle tone around mou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ess sensatio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ess tongue streng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2e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ecreased sucking strength and enduranc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85960" y="27524160"/>
            <a:ext cx="11731320" cy="60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ral Stimulation = Stroking and/or pressure to structures in and around the mou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More complex, targeted intervention than non-nutritive suck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upplemental oral stimulation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increase functional strength and control of movement for fee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e few studies re: oral stimulation are limited to preterm infants who received oral stimulation when they were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  <a:ea typeface="Arial"/>
              </a:rPr>
              <a:t>≥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31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o studies where oral stimulation was done exclusively prior to the initiation of oral feeding (pre-feeding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3404960" y="6973920"/>
            <a:ext cx="11645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o assess the effect of a prefeeding oral stimulation intervention on feeding progression and length of hospital stay on preterm infants &lt; 30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Text Box 405"/>
          <p:cNvSpPr/>
          <p:nvPr/>
        </p:nvSpPr>
        <p:spPr>
          <a:xfrm>
            <a:off x="13414320" y="91645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earch Question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Rectangle 147"/>
          <p:cNvSpPr/>
          <p:nvPr/>
        </p:nvSpPr>
        <p:spPr>
          <a:xfrm>
            <a:off x="13801680" y="10110960"/>
            <a:ext cx="1097280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ill the oral stimulation intervention given prior to a feeding once per day for 7 consecutive days result in a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aster transition from gavage to total oral feedings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when compared to controls who will receive routine NICU care?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ill the oral stimulation intervention given prior to a feeding once per day for 7 consecutive days result in a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horter length of hospital stay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when compared to controls who will receive routine NICU care?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Rectangle 148"/>
          <p:cNvSpPr/>
          <p:nvPr/>
        </p:nvSpPr>
        <p:spPr>
          <a:xfrm>
            <a:off x="13862160" y="15138360"/>
            <a:ext cx="1036944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uble blind, experimental desig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hort term longitudinal stud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lock randomized to experimental or control gro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ilot study to test intervention methods, safety and efficacy on 29 week PMA infant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417"/>
          <p:cNvSpPr/>
          <p:nvPr/>
        </p:nvSpPr>
        <p:spPr>
          <a:xfrm>
            <a:off x="13795200" y="18283320"/>
            <a:ext cx="1864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Setting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Rectangle 150" descr=""/>
          <p:cNvPicPr/>
          <p:nvPr/>
        </p:nvPicPr>
        <p:blipFill>
          <a:blip r:embed="rId1"/>
          <a:stretch/>
        </p:blipFill>
        <p:spPr>
          <a:xfrm>
            <a:off x="13660560" y="18878400"/>
            <a:ext cx="11088720" cy="3994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51"/>
          <p:cNvSpPr/>
          <p:nvPr/>
        </p:nvSpPr>
        <p:spPr>
          <a:xfrm>
            <a:off x="26474760" y="21858120"/>
            <a:ext cx="112410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ral Stimulation using Beckman*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nce per day for 7 consecutive day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ne 15-30 minutes prior to a gavage fee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egins at 29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tinuous  EKG/SaO2 monitor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ne by PI and trained RA’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urtain pulled for blin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Beckman Oral Motor Intervention-Premature Infant  (BOMI-PI)                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152"/>
          <p:cNvSpPr/>
          <p:nvPr/>
        </p:nvSpPr>
        <p:spPr>
          <a:xfrm>
            <a:off x="26495280" y="27587520"/>
            <a:ext cx="1090944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ovides assisted movement to activate muscle contraction and provides movement against resistance to build strength.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Focus is to increase functional response to pressure and movement, and control of movement for the lips, cheeks, jaw, and tongue.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heeks, lips, gums, tongue and palate were stimulated per specific protocol with finger stroking for 3 minutes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Ends with non-nutritive sucking for 2 minut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7897120" y="32307120"/>
          <a:ext cx="7772400" cy="4449960"/>
        </p:xfrm>
        <a:graphic>
          <a:graphicData uri="http://schemas.openxmlformats.org/drawingml/2006/table">
            <a:tbl>
              <a:tblPr/>
              <a:tblGrid>
                <a:gridCol w="2911320"/>
                <a:gridCol w="2441880"/>
                <a:gridCol w="1434960"/>
                <a:gridCol w="984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ek Str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range of motion and strength of cheeks, and improve lip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 each ch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p Str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lip range of motion and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and Lower Lip Cu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lip strength, range of motion, and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m Ma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range of motion of tongue, stimulate swallow, and improve s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eral Borders of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tongue range of motion and strengt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blade of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tongue range of motion and strength, stimulate swallow, and improve s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cit a Su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suck, and soft palate ac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Nutritive Su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suck, and soft palate ac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154"/>
          <p:cNvSpPr/>
          <p:nvPr/>
        </p:nvSpPr>
        <p:spPr>
          <a:xfrm>
            <a:off x="13814280" y="26311320"/>
            <a:ext cx="109602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venience sample  n = 19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infants born AGA between 26-29 weeks PMA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nically stable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Exclusion criteria: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nital anomal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 Injury (including IVH &gt; grade1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natal illicit drug expos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isted ventilation (hi-flow nasal cannula allowe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4130360" y="30807000"/>
            <a:ext cx="10129680" cy="620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398520" indent="-39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erimental (n=10)         Control (n=9)                *P valu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 ± SD                           M ± S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MA+ (weeks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28.1  ±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28.0  ± .9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84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CS^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4.4   ± .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4.3  ± .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968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entr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3.8   ± .9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3.8  ± .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96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ight (grams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1017.3   ±  127.1              913.3   ±   87.8                          0.02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entry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991.0   ±  124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915.5   ± 145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079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rent feeding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uring feeding prog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      3.2 ± 2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3.0  ±  3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66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otal to dischar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1.6 ± 1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2.2  ±  2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458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  PMA = Post Menstrual 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^  PCS =Postnatal Complications Sco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  Mann-Whitney Tes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Rectangle 174"/>
          <p:cNvSpPr/>
          <p:nvPr/>
        </p:nvSpPr>
        <p:spPr>
          <a:xfrm>
            <a:off x="38862000" y="12011040"/>
            <a:ext cx="1125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ral stimulation group transitioned to total oral feeding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 days soone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an controls  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0.043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9 week PMA infants tolerated BOMI-PI. Of the182 times oral stim done, it was never terminated due to adverse responses of infants.  There were only 4 delays for apnea in which infant self-corrected, and oral stim was continu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Text Box 479"/>
          <p:cNvSpPr/>
          <p:nvPr/>
        </p:nvSpPr>
        <p:spPr>
          <a:xfrm>
            <a:off x="38592000" y="14336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eeding Progression Within the 6 Phase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188"/>
          <p:cNvSpPr/>
          <p:nvPr/>
        </p:nvSpPr>
        <p:spPr>
          <a:xfrm>
            <a:off x="39133440" y="26831880"/>
            <a:ext cx="10720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e oral stimulation group was discharged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2.6 days sooner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an controls   </a:t>
            </a: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(p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= .541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 3-day decrease in LOS would save our nation more than      $2 billion annuall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Text Box 388"/>
          <p:cNvSpPr/>
          <p:nvPr/>
        </p:nvSpPr>
        <p:spPr>
          <a:xfrm>
            <a:off x="25984080" y="209041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Experimental Condi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Rectangle 190"/>
          <p:cNvSpPr/>
          <p:nvPr/>
        </p:nvSpPr>
        <p:spPr>
          <a:xfrm>
            <a:off x="26590680" y="18767520"/>
            <a:ext cx="102186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I/RA stands with hands inside Isolette, not touching infant, for 5 minut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urtain is pulled for blin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 Box 480"/>
          <p:cNvSpPr/>
          <p:nvPr/>
        </p:nvSpPr>
        <p:spPr>
          <a:xfrm>
            <a:off x="25987320" y="65530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Study Timelin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1" name="Group 201"/>
          <p:cNvGrpSpPr/>
          <p:nvPr/>
        </p:nvGrpSpPr>
        <p:grpSpPr>
          <a:xfrm>
            <a:off x="26601840" y="7537320"/>
            <a:ext cx="10482120" cy="4065840"/>
            <a:chOff x="26601840" y="7537320"/>
            <a:chExt cx="10482120" cy="4065840"/>
          </a:xfrm>
        </p:grpSpPr>
        <p:sp>
          <p:nvSpPr>
            <p:cNvPr id="202" name="Line 4"/>
            <p:cNvSpPr/>
            <p:nvPr/>
          </p:nvSpPr>
          <p:spPr>
            <a:xfrm>
              <a:off x="27042120" y="8919360"/>
              <a:ext cx="915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>
              <a:off x="26865720" y="7537320"/>
              <a:ext cx="2465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26-29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29507760" y="7537320"/>
              <a:ext cx="158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29 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30652560" y="7537320"/>
              <a:ext cx="2025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7042120" y="836640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29772000" y="827424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30916800" y="827424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27882720" y="7700400"/>
              <a:ext cx="140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eeks</a:t>
              </a:r>
              <a:r>
                <a:rPr b="1" lang="en-US" sz="2000" spc="-1" strike="noStrike">
                  <a:solidFill>
                    <a:srgbClr val="aabac9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MA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26601840" y="10117440"/>
              <a:ext cx="211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Eligible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29297520" y="9933120"/>
              <a:ext cx="14968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Oral Stim Begins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30709440" y="9956160"/>
              <a:ext cx="14968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Oral Stim Ends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35001720" y="8827200"/>
              <a:ext cx="2082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Discharge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27013680" y="8827200"/>
              <a:ext cx="1056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Birth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30948120" y="8827200"/>
              <a:ext cx="375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Feeding Progression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16" name="Text Box 480"/>
          <p:cNvSpPr/>
          <p:nvPr/>
        </p:nvSpPr>
        <p:spPr>
          <a:xfrm>
            <a:off x="38592000" y="321325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uture Research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Rectangle 232"/>
          <p:cNvSpPr/>
          <p:nvPr/>
        </p:nvSpPr>
        <p:spPr>
          <a:xfrm>
            <a:off x="39134880" y="29841840"/>
            <a:ext cx="91951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mall sample size (pilot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reast milk and formula both used in bottle feeding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Heterogeneity of Birth Weight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o Measurement of Behavioral Stat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233"/>
          <p:cNvSpPr/>
          <p:nvPr/>
        </p:nvSpPr>
        <p:spPr>
          <a:xfrm>
            <a:off x="39126960" y="32853240"/>
            <a:ext cx="1107936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arger study/larger sample siz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se-response studi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2" marL="98892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times per da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8892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nger period of days (to discharge?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52244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ight before each gavage or during gavage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52244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rease attrition by delaying start of oral stim by 1 week (30 weeks PMA)- if not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p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eding anym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urse/Parent responses to the BOMI-PI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Measure Infant Behavioral Stat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819000" y="65642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Rectangle 237"/>
          <p:cNvSpPr/>
          <p:nvPr/>
        </p:nvSpPr>
        <p:spPr>
          <a:xfrm>
            <a:off x="1463760" y="7588080"/>
            <a:ext cx="1021536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birth rate still rising (21% since 1990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uble the HP2010 goal of 7.6%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ver half million preterm infants born per year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BW infants hospital stay averages $79,000 per infant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ationally - costs &gt;$20 billion annuall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478"/>
          <p:cNvSpPr/>
          <p:nvPr/>
        </p:nvSpPr>
        <p:spPr>
          <a:xfrm>
            <a:off x="38592000" y="6578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ults- Total Days to Full Oral Feeding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2" name="Group 268"/>
          <p:cNvGrpSpPr/>
          <p:nvPr/>
        </p:nvGrpSpPr>
        <p:grpSpPr>
          <a:xfrm>
            <a:off x="39620520" y="7473960"/>
            <a:ext cx="8937720" cy="4600080"/>
            <a:chOff x="39620520" y="7473960"/>
            <a:chExt cx="8937720" cy="4600080"/>
          </a:xfrm>
        </p:grpSpPr>
        <p:sp>
          <p:nvSpPr>
            <p:cNvPr id="223" name="Rectangle 269"/>
            <p:cNvSpPr/>
            <p:nvPr/>
          </p:nvSpPr>
          <p:spPr>
            <a:xfrm>
              <a:off x="40305960" y="7832160"/>
              <a:ext cx="3965760" cy="32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Rectangle 270"/>
            <p:cNvSpPr/>
            <p:nvPr/>
          </p:nvSpPr>
          <p:spPr>
            <a:xfrm>
              <a:off x="44640720" y="7832160"/>
              <a:ext cx="3873600" cy="32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25" name="Group 75"/>
            <p:cNvGrpSpPr/>
            <p:nvPr/>
          </p:nvGrpSpPr>
          <p:grpSpPr>
            <a:xfrm>
              <a:off x="39620520" y="7473960"/>
              <a:ext cx="8937720" cy="4600080"/>
              <a:chOff x="39620520" y="7473960"/>
              <a:chExt cx="8937720" cy="4600080"/>
            </a:xfrm>
          </p:grpSpPr>
          <p:sp>
            <p:nvSpPr>
              <p:cNvPr id="226" name="Text Box 4"/>
              <p:cNvSpPr/>
              <p:nvPr/>
            </p:nvSpPr>
            <p:spPr>
              <a:xfrm>
                <a:off x="45747720" y="7473960"/>
                <a:ext cx="1567800" cy="35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 Narrow"/>
                  </a:rPr>
                  <a:t>Experimental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" name="Text Box 5"/>
              <p:cNvSpPr/>
              <p:nvPr/>
            </p:nvSpPr>
            <p:spPr>
              <a:xfrm>
                <a:off x="41505120" y="7473960"/>
                <a:ext cx="1383120" cy="35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    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 Narrow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" name="Text Box 6"/>
              <p:cNvSpPr/>
              <p:nvPr/>
            </p:nvSpPr>
            <p:spPr>
              <a:xfrm>
                <a:off x="41873760" y="11766960"/>
                <a:ext cx="147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M = 23.4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" name="Text Box 7"/>
              <p:cNvSpPr/>
              <p:nvPr/>
            </p:nvSpPr>
            <p:spPr>
              <a:xfrm>
                <a:off x="45286560" y="11753640"/>
                <a:ext cx="129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M = 18.1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45839880" y="9043560"/>
                <a:ext cx="0" cy="2777760"/>
              </a:xfrm>
              <a:prstGeom prst="line">
                <a:avLst/>
              </a:prstGeom>
              <a:ln w="28440">
                <a:solidFill>
                  <a:srgbClr val="003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31" name="Group 14"/>
              <p:cNvGrpSpPr/>
              <p:nvPr/>
            </p:nvGrpSpPr>
            <p:grpSpPr>
              <a:xfrm>
                <a:off x="39620520" y="7964640"/>
                <a:ext cx="8937720" cy="3567240"/>
                <a:chOff x="39620520" y="7964640"/>
                <a:chExt cx="8937720" cy="3567240"/>
              </a:xfrm>
            </p:grpSpPr>
            <p:sp>
              <p:nvSpPr>
                <p:cNvPr id="232" name="Rectangle 17"/>
                <p:cNvSpPr/>
                <p:nvPr/>
              </p:nvSpPr>
              <p:spPr>
                <a:xfrm>
                  <a:off x="40884480" y="11050560"/>
                  <a:ext cx="360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4187016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42857280" y="11050560"/>
                  <a:ext cx="345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43843320" y="11050560"/>
                  <a:ext cx="342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1"/>
                <p:cNvSpPr/>
                <p:nvPr/>
              </p:nvSpPr>
              <p:spPr>
                <a:xfrm>
                  <a:off x="4088016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2"/>
                <p:cNvSpPr/>
                <p:nvPr/>
              </p:nvSpPr>
              <p:spPr>
                <a:xfrm>
                  <a:off x="4186584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2853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4383900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41615640" y="11364120"/>
                  <a:ext cx="1407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total days to full fee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8"/>
                <p:cNvSpPr/>
                <p:nvPr/>
              </p:nvSpPr>
              <p:spPr>
                <a:xfrm>
                  <a:off x="40221360" y="1027584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9"/>
                <p:cNvSpPr/>
                <p:nvPr/>
              </p:nvSpPr>
              <p:spPr>
                <a:xfrm>
                  <a:off x="40221360" y="9513720"/>
                  <a:ext cx="903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30"/>
                <p:cNvSpPr/>
                <p:nvPr/>
              </p:nvSpPr>
              <p:spPr>
                <a:xfrm>
                  <a:off x="40221360" y="875448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40221360" y="799452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32"/>
                <p:cNvSpPr/>
                <p:nvPr/>
              </p:nvSpPr>
              <p:spPr>
                <a:xfrm>
                  <a:off x="40168800" y="1024776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33"/>
                <p:cNvSpPr/>
                <p:nvPr/>
              </p:nvSpPr>
              <p:spPr>
                <a:xfrm>
                  <a:off x="40168800" y="948600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7" name="Rectangle 34"/>
                <p:cNvSpPr/>
                <p:nvPr/>
              </p:nvSpPr>
              <p:spPr>
                <a:xfrm>
                  <a:off x="40168800" y="872640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8" name="Rectangle 35"/>
                <p:cNvSpPr/>
                <p:nvPr/>
              </p:nvSpPr>
              <p:spPr>
                <a:xfrm>
                  <a:off x="40168800" y="796464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36"/>
                <p:cNvSpPr/>
                <p:nvPr/>
              </p:nvSpPr>
              <p:spPr>
                <a:xfrm rot="16140000">
                  <a:off x="39505680" y="9284400"/>
                  <a:ext cx="404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oun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37"/>
                <p:cNvSpPr/>
                <p:nvPr/>
              </p:nvSpPr>
              <p:spPr>
                <a:xfrm>
                  <a:off x="40312080" y="10288800"/>
                  <a:ext cx="48168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38"/>
                <p:cNvSpPr/>
                <p:nvPr/>
              </p:nvSpPr>
              <p:spPr>
                <a:xfrm>
                  <a:off x="40312080" y="10288800"/>
                  <a:ext cx="48168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39"/>
                <p:cNvSpPr/>
                <p:nvPr/>
              </p:nvSpPr>
              <p:spPr>
                <a:xfrm>
                  <a:off x="41781600" y="8769240"/>
                  <a:ext cx="501480" cy="22809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40"/>
                <p:cNvSpPr/>
                <p:nvPr/>
              </p:nvSpPr>
              <p:spPr>
                <a:xfrm>
                  <a:off x="41781600" y="8769240"/>
                  <a:ext cx="501480" cy="2280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41"/>
                <p:cNvSpPr/>
                <p:nvPr/>
              </p:nvSpPr>
              <p:spPr>
                <a:xfrm>
                  <a:off x="42283080" y="9528840"/>
                  <a:ext cx="50148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42"/>
                <p:cNvSpPr/>
                <p:nvPr/>
              </p:nvSpPr>
              <p:spPr>
                <a:xfrm>
                  <a:off x="42283080" y="9528840"/>
                  <a:ext cx="50148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6" name="Rectangle 43"/>
                <p:cNvSpPr/>
                <p:nvPr/>
              </p:nvSpPr>
              <p:spPr>
                <a:xfrm>
                  <a:off x="42784560" y="10288800"/>
                  <a:ext cx="48384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7" name="Rectangle 44"/>
                <p:cNvSpPr/>
                <p:nvPr/>
              </p:nvSpPr>
              <p:spPr>
                <a:xfrm>
                  <a:off x="42784560" y="10288800"/>
                  <a:ext cx="48384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45"/>
                <p:cNvSpPr/>
                <p:nvPr/>
              </p:nvSpPr>
              <p:spPr>
                <a:xfrm>
                  <a:off x="43770240" y="9528840"/>
                  <a:ext cx="48384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46"/>
                <p:cNvSpPr/>
                <p:nvPr/>
              </p:nvSpPr>
              <p:spPr>
                <a:xfrm>
                  <a:off x="43770240" y="9528840"/>
                  <a:ext cx="48384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Freeform 47"/>
                <p:cNvSpPr/>
                <p:nvPr/>
              </p:nvSpPr>
              <p:spPr>
                <a:xfrm>
                  <a:off x="40312080" y="9902520"/>
                  <a:ext cx="3942360" cy="9759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52"/>
                <p:cNvSpPr/>
                <p:nvPr/>
              </p:nvSpPr>
              <p:spPr>
                <a:xfrm>
                  <a:off x="45187920" y="11050560"/>
                  <a:ext cx="345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53"/>
                <p:cNvSpPr/>
                <p:nvPr/>
              </p:nvSpPr>
              <p:spPr>
                <a:xfrm>
                  <a:off x="46173960" y="11050560"/>
                  <a:ext cx="342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54"/>
                <p:cNvSpPr/>
                <p:nvPr/>
              </p:nvSpPr>
              <p:spPr>
                <a:xfrm>
                  <a:off x="4715964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55"/>
                <p:cNvSpPr/>
                <p:nvPr/>
              </p:nvSpPr>
              <p:spPr>
                <a:xfrm>
                  <a:off x="4814532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5" name="Rectangle 56"/>
                <p:cNvSpPr/>
                <p:nvPr/>
              </p:nvSpPr>
              <p:spPr>
                <a:xfrm>
                  <a:off x="45184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6" name="Rectangle 57"/>
                <p:cNvSpPr/>
                <p:nvPr/>
              </p:nvSpPr>
              <p:spPr>
                <a:xfrm>
                  <a:off x="4616964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58"/>
                <p:cNvSpPr/>
                <p:nvPr/>
              </p:nvSpPr>
              <p:spPr>
                <a:xfrm>
                  <a:off x="47155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59"/>
                <p:cNvSpPr/>
                <p:nvPr/>
              </p:nvSpPr>
              <p:spPr>
                <a:xfrm>
                  <a:off x="4814136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60"/>
                <p:cNvSpPr/>
                <p:nvPr/>
              </p:nvSpPr>
              <p:spPr>
                <a:xfrm>
                  <a:off x="45918000" y="11364120"/>
                  <a:ext cx="1407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total days to full fee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63"/>
                <p:cNvSpPr/>
                <p:nvPr/>
              </p:nvSpPr>
              <p:spPr>
                <a:xfrm>
                  <a:off x="44523720" y="1027584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64"/>
                <p:cNvSpPr/>
                <p:nvPr/>
              </p:nvSpPr>
              <p:spPr>
                <a:xfrm>
                  <a:off x="44523720" y="9513720"/>
                  <a:ext cx="9000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65"/>
                <p:cNvSpPr/>
                <p:nvPr/>
              </p:nvSpPr>
              <p:spPr>
                <a:xfrm>
                  <a:off x="44523720" y="875448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66"/>
                <p:cNvSpPr/>
                <p:nvPr/>
              </p:nvSpPr>
              <p:spPr>
                <a:xfrm>
                  <a:off x="44523720" y="799452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4" name="Rectangle 67"/>
                <p:cNvSpPr/>
                <p:nvPr/>
              </p:nvSpPr>
              <p:spPr>
                <a:xfrm>
                  <a:off x="44613720" y="9528840"/>
                  <a:ext cx="48384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5" name="Rectangle 68"/>
                <p:cNvSpPr/>
                <p:nvPr/>
              </p:nvSpPr>
              <p:spPr>
                <a:xfrm>
                  <a:off x="44613720" y="9528840"/>
                  <a:ext cx="48384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6" name="Rectangle 69"/>
                <p:cNvSpPr/>
                <p:nvPr/>
              </p:nvSpPr>
              <p:spPr>
                <a:xfrm>
                  <a:off x="45097920" y="8007480"/>
                  <a:ext cx="501480" cy="304272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Rectangle 70"/>
                <p:cNvSpPr/>
                <p:nvPr/>
              </p:nvSpPr>
              <p:spPr>
                <a:xfrm>
                  <a:off x="45097920" y="8007480"/>
                  <a:ext cx="501480" cy="30427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8" name="Rectangle 71"/>
                <p:cNvSpPr/>
                <p:nvPr/>
              </p:nvSpPr>
              <p:spPr>
                <a:xfrm>
                  <a:off x="46083600" y="8769240"/>
                  <a:ext cx="501480" cy="22809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9" name="Rectangle 72"/>
                <p:cNvSpPr/>
                <p:nvPr/>
              </p:nvSpPr>
              <p:spPr>
                <a:xfrm>
                  <a:off x="46083600" y="8769240"/>
                  <a:ext cx="501480" cy="2280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Rectangle 73"/>
                <p:cNvSpPr/>
                <p:nvPr/>
              </p:nvSpPr>
              <p:spPr>
                <a:xfrm>
                  <a:off x="46585080" y="10288800"/>
                  <a:ext cx="50364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1" name="Rectangle 74"/>
                <p:cNvSpPr/>
                <p:nvPr/>
              </p:nvSpPr>
              <p:spPr>
                <a:xfrm>
                  <a:off x="46585080" y="10288800"/>
                  <a:ext cx="50364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2" name="Freeform 75"/>
                <p:cNvSpPr/>
                <p:nvPr/>
              </p:nvSpPr>
              <p:spPr>
                <a:xfrm>
                  <a:off x="44613720" y="9041760"/>
                  <a:ext cx="3944520" cy="20084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83" name="Line 10"/>
              <p:cNvSpPr/>
              <p:nvPr/>
            </p:nvSpPr>
            <p:spPr>
              <a:xfrm flipV="1">
                <a:off x="42519600" y="9876600"/>
                <a:ext cx="0" cy="1971360"/>
              </a:xfrm>
              <a:prstGeom prst="line">
                <a:avLst/>
              </a:prstGeom>
              <a:ln w="28440">
                <a:solidFill>
                  <a:srgbClr val="003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84" name="Rectangle 403"/>
          <p:cNvSpPr/>
          <p:nvPr/>
        </p:nvSpPr>
        <p:spPr>
          <a:xfrm>
            <a:off x="8629560" y="34902720"/>
            <a:ext cx="18288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85" name="Group 424"/>
          <p:cNvGrpSpPr/>
          <p:nvPr/>
        </p:nvGrpSpPr>
        <p:grpSpPr>
          <a:xfrm>
            <a:off x="39179520" y="21607560"/>
            <a:ext cx="9771120" cy="5289120"/>
            <a:chOff x="39179520" y="21607560"/>
            <a:chExt cx="9771120" cy="5289120"/>
          </a:xfrm>
        </p:grpSpPr>
        <p:grpSp>
          <p:nvGrpSpPr>
            <p:cNvPr id="286" name="Group 421"/>
            <p:cNvGrpSpPr/>
            <p:nvPr/>
          </p:nvGrpSpPr>
          <p:grpSpPr>
            <a:xfrm>
              <a:off x="39179520" y="21607560"/>
              <a:ext cx="9771120" cy="5289120"/>
              <a:chOff x="39179520" y="21607560"/>
              <a:chExt cx="9771120" cy="5289120"/>
            </a:xfrm>
          </p:grpSpPr>
          <p:pic>
            <p:nvPicPr>
              <p:cNvPr id="287" name="Object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19520" y="21607560"/>
                <a:ext cx="7431120" cy="481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8" name="Group 415"/>
              <p:cNvGrpSpPr/>
              <p:nvPr/>
            </p:nvGrpSpPr>
            <p:grpSpPr>
              <a:xfrm>
                <a:off x="39179520" y="21719160"/>
                <a:ext cx="8683920" cy="5177520"/>
                <a:chOff x="39179520" y="21719160"/>
                <a:chExt cx="8683920" cy="5177520"/>
              </a:xfrm>
            </p:grpSpPr>
            <p:grpSp>
              <p:nvGrpSpPr>
                <p:cNvPr id="289" name="Group 11"/>
                <p:cNvGrpSpPr/>
                <p:nvPr/>
              </p:nvGrpSpPr>
              <p:grpSpPr>
                <a:xfrm>
                  <a:off x="39179520" y="22732560"/>
                  <a:ext cx="8683920" cy="4164120"/>
                  <a:chOff x="39179520" y="22732560"/>
                  <a:chExt cx="8683920" cy="4164120"/>
                </a:xfrm>
              </p:grpSpPr>
              <p:sp>
                <p:nvSpPr>
                  <p:cNvPr id="290" name="Text Box 7"/>
                  <p:cNvSpPr/>
                  <p:nvPr/>
                </p:nvSpPr>
                <p:spPr>
                  <a:xfrm>
                    <a:off x="39179520" y="22732560"/>
                    <a:ext cx="329544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1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xperimental</a:t>
                    </a:r>
                    <a:endParaRPr b="0" lang="en-US" sz="3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1" name="Text Box 10"/>
                  <p:cNvSpPr/>
                  <p:nvPr/>
                </p:nvSpPr>
                <p:spPr>
                  <a:xfrm>
                    <a:off x="40095720" y="24637680"/>
                    <a:ext cx="18648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1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trol</a:t>
                    </a:r>
                    <a:endParaRPr b="0" lang="en-US" sz="3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2" name="Text Box 11"/>
                  <p:cNvSpPr/>
                  <p:nvPr/>
                </p:nvSpPr>
                <p:spPr>
                  <a:xfrm>
                    <a:off x="42153840" y="26436960"/>
                    <a:ext cx="5709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Days from 29 weeks PMA to Dischar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93" name="Text Box 15"/>
                <p:cNvSpPr/>
                <p:nvPr/>
              </p:nvSpPr>
              <p:spPr>
                <a:xfrm>
                  <a:off x="43845480" y="21719160"/>
                  <a:ext cx="3838680" cy="58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700000"/>
                      </a:solidFill>
                      <a:latin typeface="Arial Narrow"/>
                    </a:rPr>
                    <a:t>Difference of 2.6 days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294" name="TextBox 422"/>
            <p:cNvSpPr/>
            <p:nvPr/>
          </p:nvSpPr>
          <p:spPr>
            <a:xfrm>
              <a:off x="43122240" y="2271024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41.8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TextBox 423"/>
            <p:cNvSpPr/>
            <p:nvPr/>
          </p:nvSpPr>
          <p:spPr>
            <a:xfrm>
              <a:off x="46113120" y="24604200"/>
              <a:ext cx="11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44.4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332"/>
          <p:cNvGrpSpPr/>
          <p:nvPr/>
        </p:nvGrpSpPr>
        <p:grpSpPr>
          <a:xfrm>
            <a:off x="39084120" y="15038280"/>
            <a:ext cx="6248520" cy="3324240"/>
            <a:chOff x="39084120" y="15038280"/>
            <a:chExt cx="6248520" cy="3324240"/>
          </a:xfrm>
        </p:grpSpPr>
        <p:grpSp>
          <p:nvGrpSpPr>
            <p:cNvPr id="297" name="Group 11"/>
            <p:cNvGrpSpPr/>
            <p:nvPr/>
          </p:nvGrpSpPr>
          <p:grpSpPr>
            <a:xfrm>
              <a:off x="39084120" y="15038280"/>
              <a:ext cx="5980320" cy="3324240"/>
              <a:chOff x="39084120" y="15038280"/>
              <a:chExt cx="5980320" cy="3324240"/>
            </a:xfrm>
          </p:grpSpPr>
          <p:sp>
            <p:nvSpPr>
              <p:cNvPr id="298" name="AutoShape 10"/>
              <p:cNvSpPr/>
              <p:nvPr/>
            </p:nvSpPr>
            <p:spPr>
              <a:xfrm>
                <a:off x="39084120" y="15038280"/>
                <a:ext cx="5980320" cy="33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39622320" y="15410160"/>
                <a:ext cx="4775040" cy="24476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0" name="Line 13"/>
              <p:cNvSpPr/>
              <p:nvPr/>
            </p:nvSpPr>
            <p:spPr>
              <a:xfrm>
                <a:off x="39622320" y="1755252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1" name="Line 14"/>
              <p:cNvSpPr/>
              <p:nvPr/>
            </p:nvSpPr>
            <p:spPr>
              <a:xfrm>
                <a:off x="39622320" y="1724580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2" name="Line 15"/>
              <p:cNvSpPr/>
              <p:nvPr/>
            </p:nvSpPr>
            <p:spPr>
              <a:xfrm>
                <a:off x="39622320" y="1693944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3" name="Line 16"/>
              <p:cNvSpPr/>
              <p:nvPr/>
            </p:nvSpPr>
            <p:spPr>
              <a:xfrm>
                <a:off x="39622320" y="1663416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4" name="Line 17"/>
              <p:cNvSpPr/>
              <p:nvPr/>
            </p:nvSpPr>
            <p:spPr>
              <a:xfrm>
                <a:off x="39622320" y="1632744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5" name="Line 18"/>
              <p:cNvSpPr/>
              <p:nvPr/>
            </p:nvSpPr>
            <p:spPr>
              <a:xfrm>
                <a:off x="39622320" y="1602216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39622320" y="1571544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7" name="Line 20"/>
              <p:cNvSpPr/>
              <p:nvPr/>
            </p:nvSpPr>
            <p:spPr>
              <a:xfrm>
                <a:off x="39622320" y="1541016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8" name="Rectangle 21"/>
              <p:cNvSpPr/>
              <p:nvPr/>
            </p:nvSpPr>
            <p:spPr>
              <a:xfrm>
                <a:off x="39622320" y="15410160"/>
                <a:ext cx="4775040" cy="244764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9" name="Line 22"/>
              <p:cNvSpPr/>
              <p:nvPr/>
            </p:nvSpPr>
            <p:spPr>
              <a:xfrm>
                <a:off x="39622320" y="15410160"/>
                <a:ext cx="1080" cy="244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0" name="Line 23"/>
              <p:cNvSpPr/>
              <p:nvPr/>
            </p:nvSpPr>
            <p:spPr>
              <a:xfrm>
                <a:off x="39594960" y="1785780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1" name="Line 24"/>
              <p:cNvSpPr/>
              <p:nvPr/>
            </p:nvSpPr>
            <p:spPr>
              <a:xfrm>
                <a:off x="39594960" y="1755252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39594960" y="1724580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3" name="Line 26"/>
              <p:cNvSpPr/>
              <p:nvPr/>
            </p:nvSpPr>
            <p:spPr>
              <a:xfrm>
                <a:off x="39594960" y="1693944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4" name="Line 27"/>
              <p:cNvSpPr/>
              <p:nvPr/>
            </p:nvSpPr>
            <p:spPr>
              <a:xfrm>
                <a:off x="39594960" y="1663416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5" name="Line 28"/>
              <p:cNvSpPr/>
              <p:nvPr/>
            </p:nvSpPr>
            <p:spPr>
              <a:xfrm>
                <a:off x="39594960" y="1632744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>
                <a:off x="39594960" y="1602216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7" name="Line 30"/>
              <p:cNvSpPr/>
              <p:nvPr/>
            </p:nvSpPr>
            <p:spPr>
              <a:xfrm>
                <a:off x="39594960" y="1571544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8" name="Line 31"/>
              <p:cNvSpPr/>
              <p:nvPr/>
            </p:nvSpPr>
            <p:spPr>
              <a:xfrm>
                <a:off x="39594960" y="1541016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9" name="Line 32"/>
              <p:cNvSpPr/>
              <p:nvPr/>
            </p:nvSpPr>
            <p:spPr>
              <a:xfrm>
                <a:off x="39622320" y="1785780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0" name="Line 33"/>
              <p:cNvSpPr/>
              <p:nvPr/>
            </p:nvSpPr>
            <p:spPr>
              <a:xfrm flipV="1">
                <a:off x="3962232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1" name="Line 34"/>
              <p:cNvSpPr/>
              <p:nvPr/>
            </p:nvSpPr>
            <p:spPr>
              <a:xfrm flipV="1">
                <a:off x="4041720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2" name="Line 35"/>
              <p:cNvSpPr/>
              <p:nvPr/>
            </p:nvSpPr>
            <p:spPr>
              <a:xfrm flipV="1">
                <a:off x="4121352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3" name="Line 36"/>
              <p:cNvSpPr/>
              <p:nvPr/>
            </p:nvSpPr>
            <p:spPr>
              <a:xfrm flipV="1">
                <a:off x="4200984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4" name="Line 37"/>
              <p:cNvSpPr/>
              <p:nvPr/>
            </p:nvSpPr>
            <p:spPr>
              <a:xfrm flipV="1">
                <a:off x="4280508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5" name="Line 38"/>
              <p:cNvSpPr/>
              <p:nvPr/>
            </p:nvSpPr>
            <p:spPr>
              <a:xfrm flipV="1">
                <a:off x="4360140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6" name="Line 39"/>
              <p:cNvSpPr/>
              <p:nvPr/>
            </p:nvSpPr>
            <p:spPr>
              <a:xfrm flipV="1">
                <a:off x="4439772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7" name="Freeform 40"/>
              <p:cNvSpPr/>
              <p:nvPr/>
            </p:nvSpPr>
            <p:spPr>
              <a:xfrm>
                <a:off x="40019040" y="15614640"/>
                <a:ext cx="3980160" cy="1529280"/>
              </a:xfrm>
              <a:prstGeom prst="pie">
                <a:avLst/>
              </a:prstGeom>
              <a:noFill/>
              <a:ln w="0">
                <a:solidFill>
                  <a:srgbClr val="0034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8" name="Freeform 41"/>
              <p:cNvSpPr/>
              <p:nvPr/>
            </p:nvSpPr>
            <p:spPr>
              <a:xfrm>
                <a:off x="40019040" y="16235640"/>
                <a:ext cx="3980160" cy="1316520"/>
              </a:xfrm>
              <a:prstGeom prst="pie">
                <a:avLst/>
              </a:prstGeom>
              <a:noFill/>
              <a:ln w="0">
                <a:solidFill>
                  <a:srgbClr val="7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9" name="Freeform 42"/>
              <p:cNvSpPr/>
              <p:nvPr/>
            </p:nvSpPr>
            <p:spPr>
              <a:xfrm>
                <a:off x="39997080" y="15596640"/>
                <a:ext cx="4500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0" name="Freeform 43"/>
              <p:cNvSpPr/>
              <p:nvPr/>
            </p:nvSpPr>
            <p:spPr>
              <a:xfrm>
                <a:off x="40793400" y="16649640"/>
                <a:ext cx="4500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1" name="Freeform 44"/>
              <p:cNvSpPr/>
              <p:nvPr/>
            </p:nvSpPr>
            <p:spPr>
              <a:xfrm>
                <a:off x="41589720" y="16750440"/>
                <a:ext cx="4356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2" name="Freeform 45"/>
              <p:cNvSpPr/>
              <p:nvPr/>
            </p:nvSpPr>
            <p:spPr>
              <a:xfrm>
                <a:off x="42384960" y="16820640"/>
                <a:ext cx="4464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3" name="Freeform 46"/>
              <p:cNvSpPr/>
              <p:nvPr/>
            </p:nvSpPr>
            <p:spPr>
              <a:xfrm>
                <a:off x="43181280" y="16989120"/>
                <a:ext cx="44640" cy="3492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4" name="Freeform 47"/>
              <p:cNvSpPr/>
              <p:nvPr/>
            </p:nvSpPr>
            <p:spPr>
              <a:xfrm>
                <a:off x="43977600" y="17125920"/>
                <a:ext cx="4356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5" name="Rectangle 48"/>
              <p:cNvSpPr/>
              <p:nvPr/>
            </p:nvSpPr>
            <p:spPr>
              <a:xfrm>
                <a:off x="39997080" y="16218720"/>
                <a:ext cx="4356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6" name="Rectangle 49"/>
              <p:cNvSpPr/>
              <p:nvPr/>
            </p:nvSpPr>
            <p:spPr>
              <a:xfrm>
                <a:off x="40793400" y="16615800"/>
                <a:ext cx="4356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7" name="Rectangle 50"/>
              <p:cNvSpPr/>
              <p:nvPr/>
            </p:nvSpPr>
            <p:spPr>
              <a:xfrm>
                <a:off x="41589720" y="16799040"/>
                <a:ext cx="4248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8" name="Rectangle 51"/>
              <p:cNvSpPr/>
              <p:nvPr/>
            </p:nvSpPr>
            <p:spPr>
              <a:xfrm>
                <a:off x="42384960" y="17166960"/>
                <a:ext cx="4356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9" name="Rectangle 52"/>
              <p:cNvSpPr/>
              <p:nvPr/>
            </p:nvSpPr>
            <p:spPr>
              <a:xfrm>
                <a:off x="43181280" y="17227800"/>
                <a:ext cx="4356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0" name="Rectangle 53"/>
              <p:cNvSpPr/>
              <p:nvPr/>
            </p:nvSpPr>
            <p:spPr>
              <a:xfrm>
                <a:off x="43977600" y="17534520"/>
                <a:ext cx="4212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1" name="Rectangle 54"/>
              <p:cNvSpPr/>
              <p:nvPr/>
            </p:nvSpPr>
            <p:spPr>
              <a:xfrm>
                <a:off x="41233320" y="15188400"/>
                <a:ext cx="1771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eeding Progression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2" name="Rectangle 55"/>
              <p:cNvSpPr/>
              <p:nvPr/>
            </p:nvSpPr>
            <p:spPr>
              <a:xfrm>
                <a:off x="39523320" y="1781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3" name="Rectangle 56"/>
              <p:cNvSpPr/>
              <p:nvPr/>
            </p:nvSpPr>
            <p:spPr>
              <a:xfrm>
                <a:off x="39523320" y="1750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4" name="Rectangle 57"/>
              <p:cNvSpPr/>
              <p:nvPr/>
            </p:nvSpPr>
            <p:spPr>
              <a:xfrm>
                <a:off x="39523320" y="17202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5" name="Rectangle 58"/>
              <p:cNvSpPr/>
              <p:nvPr/>
            </p:nvSpPr>
            <p:spPr>
              <a:xfrm>
                <a:off x="39523320" y="1689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6" name="Rectangle 59"/>
              <p:cNvSpPr/>
              <p:nvPr/>
            </p:nvSpPr>
            <p:spPr>
              <a:xfrm>
                <a:off x="39523320" y="1659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7" name="Rectangle 60"/>
              <p:cNvSpPr/>
              <p:nvPr/>
            </p:nvSpPr>
            <p:spPr>
              <a:xfrm>
                <a:off x="39523320" y="16287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8" name="Rectangle 61"/>
              <p:cNvSpPr/>
              <p:nvPr/>
            </p:nvSpPr>
            <p:spPr>
              <a:xfrm>
                <a:off x="39523320" y="15981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9" name="Rectangle 62"/>
              <p:cNvSpPr/>
              <p:nvPr/>
            </p:nvSpPr>
            <p:spPr>
              <a:xfrm>
                <a:off x="39523320" y="1567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0" name="Rectangle 63"/>
              <p:cNvSpPr/>
              <p:nvPr/>
            </p:nvSpPr>
            <p:spPr>
              <a:xfrm>
                <a:off x="39523320" y="15369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1" name="Rectangle 64"/>
              <p:cNvSpPr/>
              <p:nvPr/>
            </p:nvSpPr>
            <p:spPr>
              <a:xfrm>
                <a:off x="4001112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2" name="Rectangle 65"/>
              <p:cNvSpPr/>
              <p:nvPr/>
            </p:nvSpPr>
            <p:spPr>
              <a:xfrm>
                <a:off x="4080780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3" name="Rectangle 66"/>
              <p:cNvSpPr/>
              <p:nvPr/>
            </p:nvSpPr>
            <p:spPr>
              <a:xfrm>
                <a:off x="4160376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4" name="Rectangle 67"/>
              <p:cNvSpPr/>
              <p:nvPr/>
            </p:nvSpPr>
            <p:spPr>
              <a:xfrm>
                <a:off x="4239864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5" name="Rectangle 68"/>
              <p:cNvSpPr/>
              <p:nvPr/>
            </p:nvSpPr>
            <p:spPr>
              <a:xfrm>
                <a:off x="4319568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6" name="Rectangle 69"/>
              <p:cNvSpPr/>
              <p:nvPr/>
            </p:nvSpPr>
            <p:spPr>
              <a:xfrm>
                <a:off x="4399092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7" name="Rectangle 70"/>
              <p:cNvSpPr/>
              <p:nvPr/>
            </p:nvSpPr>
            <p:spPr>
              <a:xfrm>
                <a:off x="41378400" y="18016200"/>
                <a:ext cx="1504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 Feeding Phases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8" name="Rectangle 71"/>
              <p:cNvSpPr/>
              <p:nvPr/>
            </p:nvSpPr>
            <p:spPr>
              <a:xfrm rot="16200000">
                <a:off x="38687400" y="16416000"/>
                <a:ext cx="1366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umber of Days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9" name="Rectangle 72"/>
              <p:cNvSpPr/>
              <p:nvPr/>
            </p:nvSpPr>
            <p:spPr>
              <a:xfrm>
                <a:off x="44470800" y="16515360"/>
                <a:ext cx="554760" cy="210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0" name="Line 73"/>
              <p:cNvSpPr/>
              <p:nvPr/>
            </p:nvSpPr>
            <p:spPr>
              <a:xfrm>
                <a:off x="44500320" y="16569360"/>
                <a:ext cx="175680" cy="108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1" name="Freeform 74"/>
              <p:cNvSpPr/>
              <p:nvPr/>
            </p:nvSpPr>
            <p:spPr>
              <a:xfrm>
                <a:off x="44565840" y="16551360"/>
                <a:ext cx="43560" cy="36000"/>
              </a:xfrm>
              <a:prstGeom prst="pie">
                <a:avLst/>
              </a:pr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2" name="Line 76"/>
              <p:cNvSpPr/>
              <p:nvPr/>
            </p:nvSpPr>
            <p:spPr>
              <a:xfrm>
                <a:off x="44500320" y="16674480"/>
                <a:ext cx="175680" cy="108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3" name="Rectangle 77"/>
              <p:cNvSpPr/>
              <p:nvPr/>
            </p:nvSpPr>
            <p:spPr>
              <a:xfrm>
                <a:off x="44565840" y="16656840"/>
                <a:ext cx="42120" cy="3492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364" name="Text Box 5"/>
            <p:cNvSpPr/>
            <p:nvPr/>
          </p:nvSpPr>
          <p:spPr>
            <a:xfrm>
              <a:off x="44465760" y="16437240"/>
              <a:ext cx="86688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xperimental</a:t>
              </a:r>
              <a:endParaRPr b="0" lang="en-US" sz="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cxnSp>
          <p:nvCxnSpPr>
            <p:cNvPr id="365" name="Straight Arrow Connector 335"/>
            <p:cNvCxnSpPr/>
            <p:nvPr/>
          </p:nvCxnSpPr>
          <p:spPr>
            <a:xfrm>
              <a:off x="44526960" y="16545600"/>
              <a:ext cx="247320" cy="1800"/>
            </a:xfrm>
            <a:prstGeom prst="straightConnector1">
              <a:avLst/>
            </a:prstGeom>
            <a:ln w="9360">
              <a:solidFill>
                <a:srgbClr val="003466"/>
              </a:solidFill>
              <a:miter/>
              <a:tailEnd len="med" type="arrow" w="med"/>
            </a:ln>
          </p:spPr>
        </p:cxnSp>
        <p:cxnSp>
          <p:nvCxnSpPr>
            <p:cNvPr id="366" name="Straight Arrow Connector 336"/>
            <p:cNvCxnSpPr/>
            <p:nvPr/>
          </p:nvCxnSpPr>
          <p:spPr>
            <a:xfrm>
              <a:off x="44526960" y="16708680"/>
              <a:ext cx="247320" cy="1800"/>
            </a:xfrm>
            <a:prstGeom prst="straightConnector1">
              <a:avLst/>
            </a:prstGeom>
            <a:ln w="9360">
              <a:solidFill>
                <a:srgbClr val="700000"/>
              </a:solidFill>
              <a:miter/>
              <a:tailEnd len="med" type="arrow" w="med"/>
            </a:ln>
          </p:spPr>
        </p:cxnSp>
      </p:grpSp>
      <p:grpSp>
        <p:nvGrpSpPr>
          <p:cNvPr id="367" name="Group 191"/>
          <p:cNvGrpSpPr/>
          <p:nvPr/>
        </p:nvGrpSpPr>
        <p:grpSpPr>
          <a:xfrm>
            <a:off x="39371760" y="18400680"/>
            <a:ext cx="5284440" cy="1828800"/>
            <a:chOff x="39371760" y="18400680"/>
            <a:chExt cx="5284440" cy="1828800"/>
          </a:xfrm>
        </p:grpSpPr>
        <p:sp>
          <p:nvSpPr>
            <p:cNvPr id="368" name="Rectangle 3"/>
            <p:cNvSpPr/>
            <p:nvPr/>
          </p:nvSpPr>
          <p:spPr>
            <a:xfrm>
              <a:off x="39371760" y="1840068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Day/Phase 1      1 Nipple per day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Rectangle 10"/>
            <p:cNvSpPr/>
            <p:nvPr/>
          </p:nvSpPr>
          <p:spPr>
            <a:xfrm>
              <a:off x="39371760" y="1870524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2              Nipple BID         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>
              <a:off x="39371760" y="1901016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3              Nipple TID         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>
              <a:off x="39371760" y="1931508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4              Nipple QID                     When consumes &gt;50% for 48 hours, progress 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39371760" y="1962000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5              Nipple 6 per day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39371760" y="1992492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6              Nipple 8 per day (all)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74" name="TextBox 253"/>
          <p:cNvSpPr/>
          <p:nvPr/>
        </p:nvSpPr>
        <p:spPr>
          <a:xfrm>
            <a:off x="44678520" y="15347880"/>
            <a:ext cx="51674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Phase 1 was clinically most relevant, as the control group took 2 additional days to complete phase 1 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trol groups also took a mean of 1 day longer to complete phases 4 &amp; 6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2 control infants took &gt;5 days to progress out of phase 6, while all experimental infants took the minimum 48 hour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TextBox 254"/>
          <p:cNvSpPr/>
          <p:nvPr/>
        </p:nvSpPr>
        <p:spPr>
          <a:xfrm>
            <a:off x="26495280" y="13020840"/>
            <a:ext cx="10909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Intervention began the day the infant turned 29 week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llowed a minimum of 9 hours and maximum of 36 hours between interventions (24 hours ideal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nical stability and eligibility rechecked prior to every intervention, and monitored throughou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ny adverse physiologic or behavioral responses to the intervention were recorded on the study documentation form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fter intervention—followed chart for continued eligibility and measurement of feeding progression and length of sta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Text Box 410"/>
          <p:cNvSpPr/>
          <p:nvPr/>
        </p:nvSpPr>
        <p:spPr>
          <a:xfrm>
            <a:off x="25984080" y="119458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Procedur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7" name="Picture 302" descr="C:\Users\kitty\Pictures\Sucking on finger.JPG"/>
          <p:cNvPicPr/>
          <p:nvPr/>
        </p:nvPicPr>
        <p:blipFill>
          <a:blip r:embed="rId3"/>
          <a:srcRect l="0" t="0" r="0" b="9152"/>
          <a:stretch/>
        </p:blipFill>
        <p:spPr>
          <a:xfrm>
            <a:off x="4781520" y="33804360"/>
            <a:ext cx="3657600" cy="3009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Face w/ Pacifier"/>
          <p:cNvPicPr/>
          <p:nvPr/>
        </p:nvPicPr>
        <p:blipFill>
          <a:blip r:embed="rId4"/>
          <a:srcRect l="0" t="0" r="18766" b="0"/>
          <a:stretch/>
        </p:blipFill>
        <p:spPr>
          <a:xfrm>
            <a:off x="2575080" y="1371600"/>
            <a:ext cx="3840120" cy="2847960"/>
          </a:xfrm>
          <a:prstGeom prst="rect">
            <a:avLst/>
          </a:prstGeom>
          <a:ln w="25560">
            <a:solidFill>
              <a:srgbClr val="0d0d0d"/>
            </a:solidFill>
            <a:miter/>
          </a:ln>
        </p:spPr>
      </p:pic>
      <p:pic>
        <p:nvPicPr>
          <p:cNvPr id="379" name="Picture 89" descr="chloe_resting"/>
          <p:cNvPicPr/>
          <p:nvPr/>
        </p:nvPicPr>
        <p:blipFill>
          <a:blip r:embed="rId5"/>
          <a:stretch/>
        </p:blipFill>
        <p:spPr>
          <a:xfrm>
            <a:off x="18281520" y="22018680"/>
            <a:ext cx="5419800" cy="361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Done"/>
          <p:cNvPicPr/>
          <p:nvPr/>
        </p:nvPicPr>
        <p:blipFill>
          <a:blip r:embed="rId6"/>
          <a:srcRect l="8485" t="0" r="0" b="0"/>
          <a:stretch/>
        </p:blipFill>
        <p:spPr>
          <a:xfrm>
            <a:off x="44839080" y="1371600"/>
            <a:ext cx="3870360" cy="284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81" name="TextBox 244"/>
          <p:cNvSpPr/>
          <p:nvPr/>
        </p:nvSpPr>
        <p:spPr>
          <a:xfrm>
            <a:off x="5500800" y="3675708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al Stim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Meg Miner</cp:lastModifiedBy>
  <dcterms:modified xsi:type="dcterms:W3CDTF">2009-04-17T18:55:06Z</dcterms:modified>
  <cp:revision>229</cp:revision>
  <dc:subject>Free PowerPoint poster templates</dc:subject>
  <dc:title>48x36 Poster Template</dc:title>
</cp:coreProperties>
</file>